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DF8-FF21-44B0-8D2D-2DCF3E39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F20-84BC-4F4C-9E98-B15AB0C2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FAC-1A04-4B2C-AE94-6EE2B6C7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155-8EC1-4CD5-A73B-CD1DEDBE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7356-B210-4B14-BE81-E127188A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775-9B0F-409E-8415-7F815F0B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BC1-2BE7-4345-B3D6-7AF7B151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EDC-EBD8-49F7-A575-254EDAD5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271080"/>
            <a:ext cx="58291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B08-53DF-435A-9DC8-31AB12D7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9E6-36E9-4885-9093-EBB1208C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DCB-6120-4134-A933-41BF71A5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3F9-6910-46D4-A437-3AFCFC75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70000"/>
          </a:bodyPr>
          <a:p>
            <a:pPr marL="148680" indent="-148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220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95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2776680"/>
            <a:ext cx="142884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2776680"/>
            <a:ext cx="217152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2776680"/>
            <a:ext cx="142848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475165F1-F9EB-431F-993D-DAC84BA7BD2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152280"/>
            <a:ext cx="144756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0746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295280"/>
            <a:ext cx="106704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828800" y="685800"/>
            <a:ext cx="8380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362320"/>
            <a:ext cx="60984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066320" y="1676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71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592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292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990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52388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7840" y="10666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1430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286000"/>
            <a:ext cx="9903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762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4720" y="6858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143000"/>
            <a:ext cx="106704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1676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42280" y="1828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9840" y="236232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4280" y="17524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3480" y="182880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209680"/>
            <a:ext cx="106668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57:51Z</dcterms:created>
  <dc:creator>Brian McBride</dc:creator>
  <dc:description/>
  <dc:language>en-US</dc:language>
  <cp:lastModifiedBy>Brian McBride</cp:lastModifiedBy>
  <dcterms:modified xsi:type="dcterms:W3CDTF">2002-03-24T17:58:18Z</dcterms:modified>
  <cp:revision>1</cp:revision>
  <dc:subject/>
  <dc:title>PowerPoint Presentation</dc:title>
</cp:coreProperties>
</file>