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049588" cy="228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D98-4139-49D8-8ADD-F528EF86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014-E656-4B6C-9AEC-0895A0B7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482-72BF-4FB5-9937-BA2A8890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638-19C7-46AA-B292-4B41A8AF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787-63B7-47D1-8512-80FE34E2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69D-0DD3-4277-B2B5-FCC7B615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5CF-5C2F-470D-8CA8-45BABDA0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5A3-1AAE-4506-8C60-64BF467A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02680"/>
            <a:ext cx="25909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DC8-9863-49E3-8B29-D2EA351A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443-A76C-4648-A91F-2A091F3A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F1E-75CA-4048-BFE9-E1250B18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DFB-48BC-4504-80C0-BC971EC8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082600"/>
            <a:ext cx="96516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6969DD6E-FEC5-4EDB-AF48-E7074813CDBC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0:40:53Z</dcterms:modified>
  <cp:revision>4</cp:revision>
  <dc:subject/>
  <dc:title>PowerPoint Presentation</dc:title>
</cp:coreProperties>
</file>