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  <p:custShowLst>
    <p:custShow name="Orientering för nya studeranden" id="0">
      <p:sldLst>
        <p:sld r:id="rId3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F32D-D218-4507-9AF0-3177C1459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1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B91C-EB62-45E0-A30D-FAD086F6A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1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1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43DB-0597-4375-8155-0056745A0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62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62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1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1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1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D515-0284-4E00-8538-AA8C12DADF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265D-D8E5-452F-B8E4-5BE6811ABB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898F-92C5-41F9-B357-91A75E759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3E18-AE78-4538-B3DC-768771AA9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C576-19A3-431A-A1B0-E68B7D258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2E82-5582-44EA-BE63-1183194DC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1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4ADF-EFB6-4BB8-9BA0-93F7E1B0C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1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9625-2934-4549-B634-2BEF95ACB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62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1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9A95-F67F-4AF7-B81D-0F552C7CB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Bodoni Bd BT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1" marL="743040" indent="-28584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2" marL="1143000" indent="-22860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3" marL="1600200" indent="-22860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4" marL="2057400" indent="-228600">
              <a:spcBef>
                <a:spcPts val="700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doni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969696"/>
                </a:solidFill>
                <a:latin typeface="Bodoni BdCn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969696"/>
                </a:solidFill>
                <a:latin typeface="Bodoni BdCn BT"/>
              </a:rPr>
              <a:t>Institutionen för datavetenskap vid Helsingfors universit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doni BdCn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8AF9-F242-4531-82AB-1E46798F4EEE}" type="slidenum">
              <a:rPr b="0" lang="en-US" sz="1400" spc="-1" strike="noStrike">
                <a:solidFill>
                  <a:srgbClr val="000000"/>
                </a:solidFill>
                <a:latin typeface="Bodoni BdCn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593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389800" y="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52280" y="6066000"/>
            <a:ext cx="91440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cs.helsinki.fi/" TargetMode="External"/><Relationship Id="rId3" Type="http://schemas.openxmlformats.org/officeDocument/2006/relationships/hyperlink" Target="http://www.cs.helsinki.fi/svenska/" TargetMode="External"/><Relationship Id="rId4" Type="http://schemas.openxmlformats.org/officeDocument/2006/relationships/hyperlink" Target="http://www.cs.helsinki.fi/svenska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.helsinki.fi/svenska/" TargetMode="External"/><Relationship Id="rId2" Type="http://schemas.openxmlformats.org/officeDocument/2006/relationships/hyperlink" Target="mailto:Anni.Rytkonen@cs.helsinki.fi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helsinki.fi/" TargetMode="External"/><Relationship Id="rId2" Type="http://schemas.openxmlformats.org/officeDocument/2006/relationships/hyperlink" Target="http://www.cs.helsinki.fi/svenska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9532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969696"/>
                </a:solidFill>
                <a:latin typeface="Bodoni Bd BT"/>
              </a:rPr>
              <a:t>Institutionen för datavetenskap vid Helsingfors universit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0400" y="2765520"/>
            <a:ext cx="4201920" cy="315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3320" y="3305160"/>
            <a:ext cx="308628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Century Gothic"/>
              </a:rPr>
              <a:t>PB 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Century Gothic"/>
              </a:rPr>
              <a:t>Gustaf Hällströms gata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Century Gothic"/>
              </a:rPr>
              <a:t>Helsingfors universi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 u="sng">
                <a:solidFill>
                  <a:srgbClr val="0033cc"/>
                </a:solidFill>
                <a:uFillTx/>
                <a:latin typeface="Century Gothic"/>
                <a:hlinkClick r:id="rId2"/>
              </a:rPr>
              <a:t>www.cs.helsinki.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 u="sng">
                <a:solidFill>
                  <a:srgbClr val="0033cc"/>
                </a:solidFill>
                <a:uFillTx/>
                <a:latin typeface="Century Gothic"/>
                <a:hlinkClick r:id="rId3"/>
              </a:rPr>
              <a:t>www.cs.helsinki.fi</a:t>
            </a:r>
            <a:r>
              <a:rPr b="0" lang="sv-FI" sz="1800" spc="-1" strike="noStrike" u="sng">
                <a:solidFill>
                  <a:srgbClr val="0033cc"/>
                </a:solidFill>
                <a:uFillTx/>
                <a:latin typeface="Century Gothic"/>
                <a:hlinkClick r:id="rId4"/>
              </a:rPr>
              <a:t>/sven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På svenska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400" spc="-1" strike="noStrike">
                <a:solidFill>
                  <a:srgbClr val="000000"/>
                </a:solidFill>
                <a:latin typeface="Bodoni BT"/>
              </a:rPr>
              <a:t>Hösten 2004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000" spc="-1" strike="noStrike">
                <a:solidFill>
                  <a:srgbClr val="000000"/>
                </a:solidFill>
                <a:latin typeface="Bodoni BT"/>
              </a:rPr>
              <a:t>Datorn som arbetsredskap</a:t>
            </a: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, 3-9/9 kl. 12-15, samt övningar, övningsarbete och tentamen. Kursen föreläses på finska, men föreläsaren Anni Rytkönen är tvåspråkig. 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000" spc="-1" strike="noStrike">
                <a:solidFill>
                  <a:srgbClr val="000000"/>
                </a:solidFill>
                <a:latin typeface="Bodoni BT"/>
              </a:rPr>
              <a:t>Lärartutorering</a:t>
            </a: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, 1 sv, fortsätter på svenska, lärartutor Greger Lindén. För 2:a och 3:e årets datavet. studenter.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400" spc="-1" strike="noStrike">
                <a:solidFill>
                  <a:srgbClr val="000000"/>
                </a:solidFill>
                <a:latin typeface="Bodoni BT"/>
              </a:rPr>
              <a:t>Våren 2005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000" spc="-1" strike="noStrike">
                <a:solidFill>
                  <a:srgbClr val="000000"/>
                </a:solidFill>
                <a:latin typeface="Bodoni BT"/>
              </a:rPr>
              <a:t>Att skriva vetenskaplig text</a:t>
            </a: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, 4 sv, kursen på finska men handledning på svenska. Anmälning i november 2004. För tillräckligt långt hunna datavet. studenter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Se </a:t>
            </a:r>
            <a:r>
              <a:rPr b="0" lang="sv-FI" sz="2400" spc="-1" strike="noStrike" u="sng">
                <a:solidFill>
                  <a:srgbClr val="0033cc"/>
                </a:solidFill>
                <a:uFillTx/>
                <a:latin typeface="Bodoni BT"/>
                <a:hlinkClick r:id="rId1"/>
              </a:rPr>
              <a:t>www.cs.helsinki.fi/svenska/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Studiehandledning: Anni Rytkönen, </a:t>
            </a:r>
            <a:r>
              <a:rPr b="0" lang="sv-FI" sz="2000" spc="-1" strike="noStrike" u="sng">
                <a:solidFill>
                  <a:srgbClr val="0033cc"/>
                </a:solidFill>
                <a:uFillTx/>
                <a:latin typeface="Bodoni BT"/>
                <a:hlinkClick r:id="rId2"/>
              </a:rPr>
              <a:t>Anni.Rytkonen@cs.helsinki.fi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Viktiga vinkar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62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Läs studiehandboken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Surfa på 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743040" indent="-28584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 u="sng">
                <a:solidFill>
                  <a:srgbClr val="0033cc"/>
                </a:solidFill>
                <a:uFillTx/>
                <a:latin typeface="Bodoni BT"/>
                <a:hlinkClick r:id="rId1"/>
              </a:rPr>
              <a:t>www.cs.helsinki.fi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43040" indent="-28584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 u="sng">
                <a:solidFill>
                  <a:srgbClr val="0033cc"/>
                </a:solidFill>
                <a:uFillTx/>
                <a:latin typeface="Bodoni BT"/>
                <a:hlinkClick r:id="rId2"/>
              </a:rPr>
              <a:t>www.cs.helsinki.fi/svenska/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Lär dig eposta och surfa så fort som möjligt (om det nu är obekant för någon)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Obs! Nästan allting sker på nätet: anmälningar, kursinformation &amp; material, övningsuppgifter, ja t.o.m. tenter ibland!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49720" y="1962000"/>
            <a:ext cx="30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Datavetenskap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62000"/>
            <a:ext cx="473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Datavetenskapen försöker svara på frågan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Vad automatiseras effektivt?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Vilka problem kan lösas på automatiskt väg (dvs. med en dator)?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Hur löser man dem så effektivt som möjligt?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I praktiken ingår i datavetenskap allt möjligt från abstrakt algoritmanalys och formella språk till programmeringsspråk, mjukvara (och hårdvara)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8560" y="1873080"/>
            <a:ext cx="200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000" spc="-1" strike="noStrike">
                <a:solidFill>
                  <a:srgbClr val="969696"/>
                </a:solidFill>
                <a:latin typeface="Bodoni Bd BT"/>
              </a:rPr>
              <a:t>Aha, det är frågan om att bygga datorer ...</a:t>
            </a:r>
            <a:endParaRPr b="0" lang="en-US" sz="40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62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Nej!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Edsger Dijkstra: 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”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Computer science is no more about computers than astronomy is about telescopes”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En datavetare kan definiera och analysera problem, planera lösningar, analysera hur effektiva i lösningsalternativen är, programmera in lösningen i en dator och lösa problemet!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05360" y="1962000"/>
            <a:ext cx="149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000" spc="-1" strike="noStrike">
                <a:solidFill>
                  <a:srgbClr val="969696"/>
                </a:solidFill>
                <a:latin typeface="Bodoni Bd BT"/>
              </a:rPr>
              <a:t>Aha, så man lär sig använda Windows ...</a:t>
            </a:r>
            <a:endParaRPr b="0" lang="en-US" sz="40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49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Öhh! Det kan stämma men ...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Det är frågan om mycket mera än grundkunskaper i datoranvändning.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Du lär dig inte bara använda program, du lär dig bygga och programmera system själv!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(Vink: Det har hänt förut!) 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22200" indent="-32220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Att lära sig använda en dator är viktigt! Datavetarna vet dessutom vad som rör sig i en dators huvud.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000" spc="-1" strike="noStrike">
                <a:solidFill>
                  <a:srgbClr val="969696"/>
                </a:solidFill>
                <a:latin typeface="Bodoni Bd BT"/>
              </a:rPr>
              <a:t>Aha, så man kan bli en ny Bill Gates</a:t>
            </a:r>
            <a:endParaRPr b="0" lang="en-US" sz="40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Hellre en ny Linus Torvalds, eller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Forskare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Lärare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IT-expert på konsultföretag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Datachef på företag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Richard Feynman: 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”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Computer science is not as old as physics; it lags by a couple of hundred years. 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	</a:t>
            </a:r>
            <a:r>
              <a:rPr b="0" lang="sv-FI" sz="1800" spc="-1" strike="noStrike">
                <a:solidFill>
                  <a:srgbClr val="3333cc"/>
                </a:solidFill>
                <a:latin typeface="Bodoni BT"/>
              </a:rPr>
              <a:t>However, this does not mean that there is significantly less on the computer scientist’s plate than on the physicist’s: younger it may be, but it has had a far more intensive upbringing!”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10440" y="1949400"/>
            <a:ext cx="178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969696"/>
                </a:solidFill>
                <a:latin typeface="Bodoni Bd BT"/>
              </a:rPr>
              <a:t>Linux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9368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Bodoni Bk BT"/>
                <a:ea typeface="Times New Roman"/>
              </a:rPr>
              <a:t>Linus Torvalds, som utvecklade Linux-operativsystemet, studerade och arbetade på institutionen 1988-1997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Bodoni Bk BT"/>
                <a:ea typeface="Times New Roman"/>
              </a:rPr>
              <a:t>Utvecklandet av Linux började i slutet av 1980-talet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Bodoni Bk BT"/>
                <a:ea typeface="Times New Roman"/>
              </a:rPr>
              <a:t>Linus blev hedersdoktor vid universitetet 2000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Bodoni Bk BT"/>
                <a:ea typeface="Times New Roman"/>
              </a:rPr>
              <a:t>Institutionen har använt Linux i över tio år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00840" y="2048040"/>
            <a:ext cx="2243160" cy="150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913440" y="4819680"/>
            <a:ext cx="2230560" cy="342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Institutionen för datavetenskap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Bodoni BT"/>
              </a:rPr>
              <a:t>Stort urval kurser och inriktningar</a:t>
            </a:r>
            <a:endParaRPr b="0" lang="en-US" sz="24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Datavetenskap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Algoritmer – lösningsmodeller och effektivitet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Intelligenta system – artificiell intelligens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Programvaruproduktion – stora program och helheter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Distributiva system och datakommunikation – trådlöst och mobilt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2" marL="1062720" indent="-212400">
              <a:spcBef>
                <a:spcPts val="451"/>
              </a:spcBef>
              <a:buClr>
                <a:srgbClr val="ff871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Bodoni BT"/>
              </a:rPr>
              <a:t>Informationssystem och språkteknologi – databaser och databrytning</a:t>
            </a:r>
            <a:endParaRPr b="0" lang="en-US" sz="18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Tillämpad datavetenskap – anything you like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Lärare i datateknik – ni vet ...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Datormatematiker – expert på båda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lvl="1" marL="690840" indent="-2656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Bioinformatik och beräkningsbiologi – genforskning mm.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382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800" spc="-1" strike="noStrike">
                <a:solidFill>
                  <a:srgbClr val="969696"/>
                </a:solidFill>
                <a:latin typeface="Bodoni Bd BT"/>
              </a:rPr>
              <a:t>Inriktningsalternativ med minimikrav</a:t>
            </a:r>
            <a:endParaRPr b="0" lang="en-US" sz="2800" spc="-1" strike="noStrike">
              <a:solidFill>
                <a:srgbClr val="969696"/>
              </a:solidFill>
              <a:latin typeface="Bodoni Bd BT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36560" y="1568520"/>
          <a:ext cx="7772400" cy="4120920"/>
        </p:xfrm>
        <a:graphic>
          <a:graphicData uri="http://schemas.openxmlformats.org/drawingml/2006/table">
            <a:tbl>
              <a:tblPr/>
              <a:tblGrid>
                <a:gridCol w="1270080"/>
                <a:gridCol w="1320840"/>
                <a:gridCol w="1295280"/>
                <a:gridCol w="1295280"/>
                <a:gridCol w="1295640"/>
                <a:gridCol w="1295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Äm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Datavetensk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Tillämpad datavetensk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Lärare i datatekn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Dator-matemati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Bioinformatikberäknings-biolo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Dataveten-sk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9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8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7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7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9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Matematik (el. System-vetenska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5 (el. 20)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Pedagog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3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Övriga biäm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3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sammanl. 4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minst 2 äm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3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ofta matema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45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minst 2 äm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Övriga stu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6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Filosofie ma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FI" sz="1400" spc="-1" strike="noStrike">
                          <a:solidFill>
                            <a:srgbClr val="000000"/>
                          </a:solidFill>
                          <a:latin typeface="Bodoni BT"/>
                        </a:rPr>
                        <a:t>160 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4400" spc="-1" strike="noStrike">
                <a:solidFill>
                  <a:srgbClr val="969696"/>
                </a:solidFill>
                <a:latin typeface="Bodoni Bd BT"/>
              </a:rPr>
              <a:t>Börja med följande kurser</a:t>
            </a:r>
            <a:endParaRPr b="0" lang="en-US" sz="4400" spc="-1" strike="noStrike">
              <a:solidFill>
                <a:srgbClr val="969696"/>
              </a:solidFill>
              <a:latin typeface="Bodoni Bd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6200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Datorns som arbetsredskap, 2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Presentation av datavetenskap, 1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Introduktion till programmering, 2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Java-programmering, 2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Introduktion till applikationsplanering, 2 sv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-339480">
              <a:spcBef>
                <a:spcPts val="499"/>
              </a:spcBef>
              <a:buClr>
                <a:srgbClr val="ff87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Bodoni BT"/>
              </a:rPr>
              <a:t>Se sida 85 i studiehandboken (gula boken)</a:t>
            </a: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B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42040" y="1962000"/>
            <a:ext cx="271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Dept. of Computer Science</dc:creator>
  <dc:description/>
  <dc:language>en-US</dc:language>
  <cp:lastModifiedBy>Greger Lindén</cp:lastModifiedBy>
  <cp:lastPrinted>1998-01-02T17:24:55Z</cp:lastPrinted>
  <dcterms:modified xsi:type="dcterms:W3CDTF">2004-08-30T12:58:34Z</dcterms:modified>
  <cp:revision>210</cp:revision>
  <dc:subject/>
  <dc:title>No Slide Title</dc:title>
</cp:coreProperties>
</file>