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2120"/>
            <a:ext cx="9142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 flipV="1">
            <a:off x="6994440" y="6375240"/>
            <a:ext cx="938160" cy="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 flipV="1">
            <a:off x="3871800" y="6291360"/>
            <a:ext cx="3024360" cy="93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848040" y="4981680"/>
            <a:ext cx="978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854520" y="538812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92680" y="6086520"/>
            <a:ext cx="299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44520" y="304920"/>
            <a:ext cx="8113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JavaDraw - Architecture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779560" y="2579760"/>
            <a:ext cx="857160" cy="26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58760" y="3532320"/>
            <a:ext cx="609480" cy="247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79560" y="3532320"/>
            <a:ext cx="858960" cy="247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33560" y="2579760"/>
            <a:ext cx="622440" cy="247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54240" y="1274760"/>
            <a:ext cx="189360" cy="527040"/>
            <a:chOff x="1254240" y="1274760"/>
            <a:chExt cx="189360" cy="527040"/>
          </a:xfrm>
        </p:grpSpPr>
        <p:sp>
          <p:nvSpPr>
            <p:cNvPr id="49" name=""/>
            <p:cNvSpPr/>
            <p:nvPr/>
          </p:nvSpPr>
          <p:spPr>
            <a:xfrm>
              <a:off x="1347840" y="1274760"/>
              <a:ext cx="0" cy="527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54240" y="1484280"/>
              <a:ext cx="189360" cy="122760"/>
            </a:xfrm>
            <a:custGeom>
              <a:avLst/>
              <a:gdLst/>
              <a:ahLst/>
              <a:rect l="0" t="0" r="r" b="b"/>
              <a:pathLst>
                <a:path w="526" h="341">
                  <a:moveTo>
                    <a:pt x="0" y="341"/>
                  </a:moveTo>
                  <a:lnTo>
                    <a:pt x="526" y="341"/>
                  </a:lnTo>
                  <a:lnTo>
                    <a:pt x="263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073320" y="1279440"/>
            <a:ext cx="189360" cy="527040"/>
            <a:chOff x="3073320" y="1279440"/>
            <a:chExt cx="189360" cy="527040"/>
          </a:xfrm>
        </p:grpSpPr>
        <p:sp>
          <p:nvSpPr>
            <p:cNvPr id="52" name=""/>
            <p:cNvSpPr/>
            <p:nvPr/>
          </p:nvSpPr>
          <p:spPr>
            <a:xfrm>
              <a:off x="3166920" y="1279440"/>
              <a:ext cx="0" cy="527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73320" y="1488960"/>
              <a:ext cx="189360" cy="122760"/>
            </a:xfrm>
            <a:custGeom>
              <a:avLst/>
              <a:gdLst/>
              <a:ahLst/>
              <a:rect l="0" t="0" r="r" b="b"/>
              <a:pathLst>
                <a:path w="526" h="341">
                  <a:moveTo>
                    <a:pt x="0" y="341"/>
                  </a:moveTo>
                  <a:lnTo>
                    <a:pt x="526" y="341"/>
                  </a:lnTo>
                  <a:lnTo>
                    <a:pt x="263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 txBox="1"/>
          <p:nvPr/>
        </p:nvSpPr>
        <p:spPr>
          <a:xfrm>
            <a:off x="912960" y="1773360"/>
            <a:ext cx="920880" cy="279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Wind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14480" y="1049400"/>
            <a:ext cx="60948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722680" y="1773360"/>
            <a:ext cx="920880" cy="272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ing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30680" y="1074600"/>
            <a:ext cx="60948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90800" y="199080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881360" y="1843200"/>
            <a:ext cx="790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8480" y="2077920"/>
            <a:ext cx="0" cy="466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66920" y="2178000"/>
            <a:ext cx="0" cy="385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47840" y="297324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720800" y="3668760"/>
            <a:ext cx="1027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687840" y="1727280"/>
            <a:ext cx="635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60560" y="3479760"/>
            <a:ext cx="571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03240" y="2114640"/>
            <a:ext cx="544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87840" y="1916280"/>
            <a:ext cx="413280" cy="1724400"/>
          </a:xfrm>
          <a:custGeom>
            <a:avLst/>
            <a:gdLst/>
            <a:ahLst/>
            <a:rect l="0" t="0" r="r" b="b"/>
            <a:pathLst>
              <a:path fill="none" w="1148" h="4790">
                <a:moveTo>
                  <a:pt x="0" y="0"/>
                </a:moveTo>
                <a:lnTo>
                  <a:pt x="1148" y="0"/>
                </a:lnTo>
                <a:lnTo>
                  <a:pt x="1148" y="4790"/>
                </a:lnTo>
                <a:lnTo>
                  <a:pt x="0" y="479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11480" y="3463920"/>
            <a:ext cx="712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3616200"/>
            <a:ext cx="712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62120" y="3638520"/>
            <a:ext cx="69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40080" y="4514760"/>
            <a:ext cx="0" cy="207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36800" y="4254480"/>
            <a:ext cx="960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awing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476520" y="4254480"/>
            <a:ext cx="480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27520" y="4514760"/>
            <a:ext cx="0" cy="206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760" y="4254480"/>
            <a:ext cx="608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an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556320" y="4254480"/>
            <a:ext cx="960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awWind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731000" y="4254480"/>
            <a:ext cx="480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62520" y="4514760"/>
            <a:ext cx="0" cy="207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51600" y="4514760"/>
            <a:ext cx="0" cy="208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70760" y="4514760"/>
            <a:ext cx="0" cy="2081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76360" y="4564080"/>
            <a:ext cx="825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se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76360" y="4983120"/>
            <a:ext cx="770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seDr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76360" y="5421240"/>
            <a:ext cx="671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se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84480" y="5202360"/>
            <a:ext cx="755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St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84480" y="4792680"/>
            <a:ext cx="770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84480" y="5653080"/>
            <a:ext cx="735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76840" y="5904000"/>
            <a:ext cx="946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DefaultT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41960" y="6108840"/>
            <a:ext cx="698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140600" y="6164280"/>
            <a:ext cx="5796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32360" y="1863720"/>
            <a:ext cx="3486240" cy="1130400"/>
            <a:chOff x="4932360" y="1863720"/>
            <a:chExt cx="3486240" cy="1130400"/>
          </a:xfrm>
        </p:grpSpPr>
        <p:sp>
          <p:nvSpPr>
            <p:cNvPr id="91" name=""/>
            <p:cNvSpPr txBox="1"/>
            <p:nvPr/>
          </p:nvSpPr>
          <p:spPr>
            <a:xfrm>
              <a:off x="5821200" y="2200320"/>
              <a:ext cx="1371600" cy="266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useIntera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4932360" y="2727360"/>
              <a:ext cx="965160" cy="266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gIntera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6049800" y="2727360"/>
              <a:ext cx="990720" cy="266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Intera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7218360" y="2727360"/>
              <a:ext cx="1200240" cy="266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lectAreaIntera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76960" y="2631960"/>
              <a:ext cx="2489400" cy="95760"/>
            </a:xfrm>
            <a:custGeom>
              <a:avLst/>
              <a:gdLst/>
              <a:ahLst/>
              <a:rect l="0" t="0" r="r" b="b"/>
              <a:pathLst>
                <a:path fill="none" w="6915" h="266">
                  <a:moveTo>
                    <a:pt x="0" y="255"/>
                  </a:moveTo>
                  <a:lnTo>
                    <a:pt x="0" y="0"/>
                  </a:lnTo>
                  <a:lnTo>
                    <a:pt x="6897" y="0"/>
                  </a:lnTo>
                  <a:lnTo>
                    <a:pt x="6897" y="266"/>
                  </a:lnTo>
                  <a:lnTo>
                    <a:pt x="6915" y="26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32560" y="246708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72080" y="2530440"/>
              <a:ext cx="120960" cy="101880"/>
            </a:xfrm>
            <a:custGeom>
              <a:avLst/>
              <a:gdLst/>
              <a:ahLst/>
              <a:rect l="0" t="0" r="r" b="b"/>
              <a:pathLst>
                <a:path w="336" h="283">
                  <a:moveTo>
                    <a:pt x="0" y="283"/>
                  </a:moveTo>
                  <a:lnTo>
                    <a:pt x="336" y="283"/>
                  </a:lnTo>
                  <a:lnTo>
                    <a:pt x="167" y="0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770520" y="1863720"/>
              <a:ext cx="1525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lectionTool sup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577880" y="4772160"/>
            <a:ext cx="819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77880" y="5181480"/>
            <a:ext cx="819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77880" y="5600880"/>
            <a:ext cx="819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628720" y="4716360"/>
            <a:ext cx="825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se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628720" y="5135400"/>
            <a:ext cx="770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seDr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628720" y="5573880"/>
            <a:ext cx="671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se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2160" y="492444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35400" y="533412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5753160"/>
            <a:ext cx="1333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00480" y="4749840"/>
            <a:ext cx="85680" cy="314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97240" y="5175360"/>
            <a:ext cx="85680" cy="314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94000" y="5600880"/>
            <a:ext cx="82440" cy="892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1440" y="4902120"/>
            <a:ext cx="85680" cy="314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1440" y="5308560"/>
            <a:ext cx="85680" cy="314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4680" y="5734080"/>
            <a:ext cx="73080" cy="758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67120" y="583884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99400" y="6070680"/>
            <a:ext cx="90360" cy="4208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32600" y="6329520"/>
            <a:ext cx="81000" cy="1573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29040" y="4973760"/>
            <a:ext cx="85680" cy="208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34080" y="5373720"/>
            <a:ext cx="85680" cy="208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34080" y="5811840"/>
            <a:ext cx="85680" cy="208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305160" y="2081160"/>
            <a:ext cx="0" cy="4428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9720" y="2193840"/>
            <a:ext cx="770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309840" y="287172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55840" y="3033720"/>
            <a:ext cx="657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89640" y="4253040"/>
            <a:ext cx="571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04000" y="4508640"/>
            <a:ext cx="0" cy="20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1160" y="5416560"/>
            <a:ext cx="87480" cy="198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075280" y="5245200"/>
            <a:ext cx="614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29120" y="5429160"/>
            <a:ext cx="89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38160" y="1933560"/>
            <a:ext cx="157680" cy="109800"/>
          </a:xfrm>
          <a:custGeom>
            <a:avLst/>
            <a:gdLst/>
            <a:ahLst/>
            <a:rect l="0" t="0" r="r" b="b"/>
            <a:pathLst>
              <a:path fill="none" w="438" h="305">
                <a:moveTo>
                  <a:pt x="0" y="159"/>
                </a:moveTo>
                <a:lnTo>
                  <a:pt x="224" y="0"/>
                </a:lnTo>
                <a:lnTo>
                  <a:pt x="438" y="159"/>
                </a:lnTo>
                <a:lnTo>
                  <a:pt x="224" y="30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03200" y="2052720"/>
            <a:ext cx="125640" cy="119520"/>
          </a:xfrm>
          <a:custGeom>
            <a:avLst/>
            <a:gdLst/>
            <a:ahLst/>
            <a:rect l="0" t="0" r="r" b="b"/>
            <a:pathLst>
              <a:path fill="none" w="349" h="332">
                <a:moveTo>
                  <a:pt x="0" y="173"/>
                </a:moveTo>
                <a:lnTo>
                  <a:pt x="179" y="0"/>
                </a:lnTo>
                <a:lnTo>
                  <a:pt x="349" y="173"/>
                </a:lnTo>
                <a:lnTo>
                  <a:pt x="179" y="33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74720" y="2054160"/>
            <a:ext cx="125640" cy="119520"/>
          </a:xfrm>
          <a:custGeom>
            <a:avLst/>
            <a:gdLst/>
            <a:ahLst/>
            <a:rect l="0" t="0" r="r" b="b"/>
            <a:pathLst>
              <a:path fill="none" w="349" h="332">
                <a:moveTo>
                  <a:pt x="0" y="173"/>
                </a:moveTo>
                <a:lnTo>
                  <a:pt x="179" y="0"/>
                </a:lnTo>
                <a:lnTo>
                  <a:pt x="349" y="173"/>
                </a:lnTo>
                <a:lnTo>
                  <a:pt x="179" y="33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39880" y="2176560"/>
            <a:ext cx="967320" cy="390960"/>
          </a:xfrm>
          <a:custGeom>
            <a:avLst/>
            <a:gdLst/>
            <a:ahLst/>
            <a:rect l="0" t="0" r="r" b="b"/>
            <a:pathLst>
              <a:path fill="none" w="2687" h="1086">
                <a:moveTo>
                  <a:pt x="0" y="0"/>
                </a:moveTo>
                <a:lnTo>
                  <a:pt x="0" y="424"/>
                </a:lnTo>
                <a:lnTo>
                  <a:pt x="2687" y="108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83040" y="2849400"/>
            <a:ext cx="125640" cy="119520"/>
          </a:xfrm>
          <a:custGeom>
            <a:avLst/>
            <a:gdLst/>
            <a:ahLst/>
            <a:rect l="0" t="0" r="r" b="b"/>
            <a:pathLst>
              <a:path fill="none" w="349" h="332">
                <a:moveTo>
                  <a:pt x="0" y="173"/>
                </a:moveTo>
                <a:lnTo>
                  <a:pt x="179" y="0"/>
                </a:lnTo>
                <a:lnTo>
                  <a:pt x="349" y="173"/>
                </a:lnTo>
                <a:lnTo>
                  <a:pt x="179" y="33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GGENSCHWILER THOMAS</dc:creator>
  <dc:description/>
  <dc:language>en-US</dc:language>
  <cp:lastModifiedBy>EGGENSCHWILER THOMAS</cp:lastModifiedBy>
  <cp:revision>0</cp:revision>
  <dc:subject/>
  <dc:title>HotJavaDraw - Architecture Overview</dc:title>
</cp:coreProperties>
</file>