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9D9-7BCA-479D-B4E8-A265F73D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0BC-68F9-442E-B20E-05706ABE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E05-8D1C-4EFC-8B9E-9F42C091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8600" y="198108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8600" y="4130640"/>
            <a:ext cx="2465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523-4A1F-47C4-896D-4EAAD964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307-69E1-402E-AFE0-68372C81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E14-4BAB-4327-BB4D-5562E04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576-164C-4EAA-86E5-D9578534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B7D-0708-47B1-B978-8687082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6000"/>
            <a:ext cx="766584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F3C-6703-4DAB-87A0-173D432C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AA5-F9C9-4507-9B1E-6C0F7568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4000" y="413064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397-C9E9-4EAF-A7D3-242B7B8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4000" y="1981080"/>
            <a:ext cx="373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656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40D4-B6FD-49F2-B2B3-240FAAD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F4B5D5-DF84-4115-BA7A-72126097840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028112-91F0-465D-AA3E-0B0505BE3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sen kirjoittamisen kurssi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evätlukukausi 2002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666880"/>
            <a:ext cx="7467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tti Nykän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tti.nykanen@cs.helsinki.f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staanot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a 11:30-12:00 ja ti, t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9:30-10: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481 / puh. 191 4423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rssin kotisivu: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ttp://www.cs.helsinki.fi/Matti.Nykanen/TiKi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614-A95C-42FF-A59B-DC94E82ACF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E822C-2951-4447-8E4F-8D8D9C3F9113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olmassijaiset tietolähte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656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donhakua tukevat luettelot, alakohtaiset bibliografi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M Guide to Computing Lit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kkeleiden luettelo (vuoteen 1997; sen jälkeen CD-ROM tai WWW-palvel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ku tekijöiden, avainsanojen tai CR-luokituksen muk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6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M Computing Classification Syst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erarkkinen aineistoluokittel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ttp://www.acm.org/class/1998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dellinen versio "Computing Reviews (1991) Classification System" (ns. CR-luoka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udet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ieteellist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julkaisujen WWW-hakukone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n kotisivulla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sei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032-3741-4140-861E-57A27BA3DE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2DA15-25E8-49A7-8A9C-0CB50EF6EA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M Computing Classification System (1998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7560" y="755640"/>
            <a:ext cx="7550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A. General Literatur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B. Hardwar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. Computer Systems Organiz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 Software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0 GENER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1 PROGRAMMING TECHNIQUES (E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2 SOFTWARE ENGINEERING (K.6.3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 PROGRAMMING LANGUA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0 General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1 Formal Definitions and Theory (D.2.1, F.3.1, F.3.2, F.4.2, F.4.3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2 Language Classific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Applicative (functional) languages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Concurrent, distributed, and parallel languag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Constraint and logic languages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Data-flow languag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Design languag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Extensible languag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acro and assembly language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icroprogramming languages [**]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Multiparadigm languages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ondeterministic languages [**]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Nonprocedural languages [**]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Object-oriented langua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Specialized application languag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800" spc="-1" strike="noStrike">
                <a:solidFill>
                  <a:srgbClr val="000000"/>
                </a:solidFill>
                <a:latin typeface="Arial"/>
              </a:rPr>
              <a:t>Very high-level languages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3 Language Constructs and Features (E.2)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4 Processor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3.m Miscellaneou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4 OPERATING SYSTEMS (C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D.m MISCELLANEOUS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. Data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. Theory of Comput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G. Mathematics of Comput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. Information System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. Computing Methodolog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J. Computer Applic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K. Computing Milieu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32600" y="31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8480" y="3282840"/>
            <a:ext cx="1511280" cy="368280"/>
          </a:xfrm>
          <a:prstGeom prst="leftArrow">
            <a:avLst>
              <a:gd name="adj1" fmla="val 50000"/>
              <a:gd name="adj2" fmla="val 38566"/>
            </a:avLst>
          </a:prstGeom>
          <a:noFill/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ae00"/>
                </a:solidFill>
                <a:latin typeface="Arial"/>
              </a:rPr>
              <a:t>ei enää uusille</a:t>
            </a:r>
            <a:r>
              <a:rPr b="0" lang="en-GB" sz="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GB" sz="800" spc="-1" strike="noStrike">
                <a:solidFill>
                  <a:srgbClr val="00ae00"/>
                </a:solidFill>
                <a:latin typeface="Arial"/>
              </a:rPr>
              <a:t>dokumentei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5840" y="3892680"/>
            <a:ext cx="3721320" cy="368280"/>
          </a:xfrm>
          <a:prstGeom prst="leftArrow">
            <a:avLst>
              <a:gd name="adj1" fmla="val 50000"/>
              <a:gd name="adj2" fmla="val 45424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ae00"/>
                </a:solidFill>
                <a:latin typeface="Arial"/>
              </a:rPr>
              <a:t>D.3.2 [Programming Languages]: Object-oriented languages --- Java, C++; 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4280" y="1911240"/>
            <a:ext cx="977760" cy="444600"/>
          </a:xfrm>
          <a:prstGeom prst="leftArrow">
            <a:avLst>
              <a:gd name="adj1" fmla="val 50000"/>
              <a:gd name="adj2" fmla="val 42660"/>
            </a:avLst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ae00"/>
                </a:solidFill>
                <a:latin typeface="Arial"/>
              </a:rPr>
              <a:t>sukulaissolmu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203-53A8-4947-93E5-8B06E09BFF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72CE5-92B6-4160-945D-22C37312AF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irjasto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656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eellisimmat lähteet tieteellisten lehtien ja konferenssijulkaisujen artikkelei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usteokset hyviä lähtökoht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porteista harvemmin hyötyä (uusimpia teknillisyyksiä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ollisuuskatu 23, 2. krs, ma-to 8-19, pe 8-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ttp://www.cs.helsinki.fi/kirjasto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DF0-6337-48C2-908C-A106592483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5182C-88BF-4ABD-93A9-EF2A0B6AEFDA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52480" y="2971800"/>
            <a:ext cx="1295640" cy="579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rj. oppaa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bliografi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38880" y="3273480"/>
            <a:ext cx="345960" cy="2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880240" y="4181400"/>
            <a:ext cx="320400" cy="189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6584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KTL:n kirjasto (2. krs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1040" y="1341360"/>
            <a:ext cx="1436760" cy="221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480" y="1676520"/>
            <a:ext cx="754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k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6880" y="4168800"/>
            <a:ext cx="1434960" cy="1685880"/>
          </a:xfrm>
          <a:prstGeom prst="rect">
            <a:avLst/>
          </a:prstGeom>
          <a:solidFill>
            <a:srgbClr val="ff99cc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552840"/>
            <a:ext cx="1141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4280" y="4162320"/>
            <a:ext cx="91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164120"/>
            <a:ext cx="0" cy="170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162320"/>
            <a:ext cx="24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4697280"/>
            <a:ext cx="0" cy="117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80036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297080"/>
            <a:ext cx="0" cy="53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3344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58200" y="1752480"/>
            <a:ext cx="0" cy="4114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3997440"/>
            <a:ext cx="1371600" cy="152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2951280" y="2608560"/>
            <a:ext cx="1199880" cy="64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urssikirj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t.m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4169880" y="2321280"/>
            <a:ext cx="1200240" cy="1189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-lainatt. lehde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6349320" y="2325960"/>
            <a:ext cx="1225440" cy="118980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inattav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port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6074280" y="4391640"/>
            <a:ext cx="1695240" cy="91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-lainattav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t, konf.jul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 raport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3400" y="4359240"/>
            <a:ext cx="11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rjasto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it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449360" y="3706560"/>
            <a:ext cx="30312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000680"/>
            <a:ext cx="284040" cy="74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6880" y="4695840"/>
            <a:ext cx="13510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nferenss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kaisulis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uokittelu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9760" y="4116240"/>
            <a:ext cx="379440" cy="57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3554280"/>
            <a:ext cx="0" cy="60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480" y="2514600"/>
            <a:ext cx="957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ent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2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344600"/>
            <a:ext cx="0" cy="4522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135160" y="3553920"/>
            <a:ext cx="379440" cy="227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2972880" y="4392720"/>
            <a:ext cx="227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4164120"/>
            <a:ext cx="0" cy="53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0480" y="469584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2781360"/>
            <a:ext cx="139680" cy="13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rot="16200000">
            <a:off x="7042680" y="4483800"/>
            <a:ext cx="1681200" cy="641160"/>
          </a:xfrm>
          <a:prstGeom prst="rect">
            <a:avLst/>
          </a:prstGeom>
          <a:solidFill>
            <a:srgbClr val="ff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inattav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hdet ja r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472000" y="3027240"/>
            <a:ext cx="139680" cy="139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9960" y="5867280"/>
            <a:ext cx="2208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1800" y="990720"/>
            <a:ext cx="12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htiluett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67080" y="121896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279440" y="4317840"/>
            <a:ext cx="320760" cy="189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62520" y="1828800"/>
            <a:ext cx="1143000" cy="366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utuu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866960"/>
            <a:ext cx="281160" cy="745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3816360"/>
            <a:ext cx="978120" cy="520560"/>
          </a:xfrm>
          <a:prstGeom prst="leftArrow">
            <a:avLst>
              <a:gd name="adj1" fmla="val 50000"/>
              <a:gd name="adj2" fmla="val 93940"/>
            </a:avLst>
          </a:prstGeom>
          <a:solidFill>
            <a:srgbClr val="99ff99"/>
          </a:solidFill>
          <a:ln w="1260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s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58672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41972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37000" y="4494240"/>
            <a:ext cx="88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C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105520"/>
            <a:ext cx="2286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752480" y="5105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7720" y="533232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C 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41240" y="1554120"/>
          <a:ext cx="824040" cy="72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41240" y="1554120"/>
                    <a:ext cx="8240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rot="16200000">
            <a:off x="5317200" y="2294640"/>
            <a:ext cx="135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rjast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ärjestelmä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5472000" y="2523960"/>
            <a:ext cx="139680" cy="140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2440" y="912960"/>
            <a:ext cx="30456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ma kirjastojärjestelm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liopistojen yhteiset järjestelmä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D-ROM-luette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220-E688-42D0-B220-BB38E99D92B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C0B33-48D6-4D2B-806B-9241806C2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666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isää lähdehausta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leiset hakukoneet, www.altavista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/goog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com y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otettavuus? pysyvyys?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saatioiden ja tutkimusryhmien sivust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ttp://dblp.uni-trier.de/, http://liinwww.ira.uka.de/bibliography, http://cora.whizbang.com, 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M Digital Library http://www.acm.org/dl/, IEE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ttp://www.ieee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iopistokirjastojen sähköiset kortist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aitokse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ärjestelmä sen kotisivulta 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(yhtymässä Helkaa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liopist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618ffd"/>
                </a:solidFill>
                <a:latin typeface="Arial"/>
              </a:rPr>
              <a:t>Helk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järjestelmä sen kotisivulta 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(kurssej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maa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yliopistokirjastojen </a:t>
            </a:r>
            <a:r>
              <a:rPr b="1" lang="en-GB" sz="1800" spc="-1" strike="noStrike">
                <a:solidFill>
                  <a:srgbClr val="618ffd"/>
                </a:solidFill>
                <a:latin typeface="Arial"/>
              </a:rPr>
              <a:t>Lind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järjestelmä 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(pääsy vain yliopiston tietokoneilta</a:t>
            </a:r>
            <a:r>
              <a:rPr b="1" lang="fi-FI" sz="1800" spc="-1" strike="noStrike">
                <a:solidFill>
                  <a:srgbClr val="00ae00"/>
                </a:solidFill>
                <a:latin typeface="Arial"/>
              </a:rPr>
              <a:t>, kaukolaina maksaa</a:t>
            </a:r>
            <a:r>
              <a:rPr b="1" lang="en-GB" sz="1800" spc="-1" strike="noStrike">
                <a:solidFill>
                  <a:srgbClr val="00ae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itetietojen keruus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peettomien toistojen välttämiseksi kannattaa tehdä muistiinpanoja ja koota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ortistoksi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oita tutusta: muisti, muistiinpanot, oppikirj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hkaselkämanuaalien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vihjeet (ohjaaj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ödyllisten lähteiden (viittaamien lähteiden)* viit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B101-E89C-4F58-8334-99515AAE0F7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B18B2-5F5C-4158-9B73-32F355A11A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ähteiden käsittelyst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ödyllisyyden arviointi silmäilyn perusteel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teiden lukemisesta ja käsittelystä lisää myöhem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istiinpanot (kortisto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ämän(kin) vuoksi hyvä otsikko, tiivistelmä, johdanto &amp; lopetus tärkeitä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ikoiva artikkeleiden kopioi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a viitetiedot muisti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t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myös) kopioo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äljenteiden hallinnoi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kijän muk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uetut / käsittelemättömä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skeiset / lisämateriaal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heen muka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utkielman sisällysluette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424-0742-4625-87D2-9FFB01F25F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2062A-C3B1-4858-B74B-1F207A7D38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teellinen kirjoittaminen 1/7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65648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ärjestäytyminen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yhmäjaon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ja esitietoj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arkis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rssi lyhyesti: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ä, miksi ja mi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tä on tieteellinen kirjoittami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don hak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usteita ja vinkkej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90520" y="1469880"/>
            <a:ext cx="2608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Kirjoittaa jot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ättää jälkeensä. Unta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Ja herättyää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iitä tajuaa ett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des lukijaa 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kkyu (suom. Tuomas Anhav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7D8-37B1-4F0F-B749-68EC7B5E96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C185E-A24A-41A8-8DE7-7CEFE06A4F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aitoskirjaston lainausoikeu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äytä hakulomake (saa luennolta, kirjastosta tai verkost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nhaan saa jatkoa kirjoittamalla lomakkees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lauta lomake luennoijalle (tai ryhmääs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uennoijan (tai valvojan) hyväksymä lomake odottaa kirjastossa ensimmäistä lainauskertaasi, jolloin tietosi syötetään järjestelmää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urssilta saatu lainausoikeus voimassa tämän luk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vu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tta gradua tai laitoksella työskentelyä varten "toistaiseksi"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irjojen karhu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min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ukits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aikk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yliopistokirjastot (Helkassa)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5C6-AB9F-4248-95AD-CDF148BE74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684AE-0B02-4EC7-A5D0-97C6F377F4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6360"/>
            <a:ext cx="766584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uoviavai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56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äästää "julkisiin" tiloihin (varsinkin 3. kerroksen mikroluokkiin) myös talon ollessa suljettu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kulomakkeita luennolta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(tai verkost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Luennoijan (tai valvojan) allekirjoittama lomake odottaa ryhmätapaamisess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imita lomake 1. kerroksen vahtimestareille, joilta pankkisiirto 100mk panttimaksusta. (Palautetaan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vaint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lautettaessa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vaimen saa noin viikon päästä maksettua kuittia vastaan vahtimestareil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Avain voimassa tämän lukuvuod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nhaan saa jatkoa rastittamalla vastaavan ruud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87A-F615-4018-8545-DDC7E210CF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5326F4-D988-4EB0-A42F-82D12D887E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urssi lyhyesti: Mitä ja miksi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tkielmatyöskentelyn ja teknis-tieteellisen viestinnän perustaid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don haku, lähteiden käyttö, esityksen jäsentäminen, kirjallinen ja suullinen esit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steritasoisen tutkijan ja tietotekniikka-ammattilaisen perustaitoj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mistautumista pro gradu -tutkielma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8E9-50AC-4245-808C-6339E0EDC1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68980-1758-4DD7-8B9C-CC89B57E73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urssi lyhyesti: Miten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56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yhmissä ohjattu harjoitte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edon haku, 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kirjoittamine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suullinen esitys (noin viikko 1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ohjaaja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neuvoo (lähes) viikoitta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valvoja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arvostelee tutkielman (eli antaa kurssiarvosan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nsimmäinen kokoontuminen 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pakollinen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teittain laajenevat kirjoitusharjoituk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: Referaatti (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noin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viikko 0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: Aine (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noin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viikko 10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: Tutkielma (</a:t>
            </a:r>
            <a:r>
              <a:rPr b="1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viikko 18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ypsyysnäyte (LuK-kirjoitusko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istaina 14.5.2002 kello 9-13 laitoksen Auditorio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kollinen tutkinnon osa, kätevintä tässä vaihees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i tarvitse ilmoittautua jos tutkielma jätetty ajoissa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tai valmistumass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eli valvojan hyväksymä luonnos ja valmistumisaikataulu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uten  valvojan kanssa sovitussa erilliskokeessa seuraavan lukukauden kuluessa (tai vasta gradun pohjalta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mutta silloin työläämpää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D1C-B6AC-4E89-BA87-F12F6F5030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C4485-9C3A-426F-A949-388F3E682A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Kurssi lyhyesti: Luenno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leistä perustaa, harjoituksia tukevassa järjestyksess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edon ha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ähteiden käsittely, lähdeluette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uksen jäsen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rjoituksen osat ja sisält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rityiskysymyksiä: tiivistelmä, kuvat, taulukot, kaav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ielias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ullisen esityksen perus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hdollisesti pieniä havainnollistavia harjoituks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084-E61B-4035-A2AF-C9643E348E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52520-3FD0-4B0F-A7E5-EFD2F27DB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14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iedon haku: perusteita ja vinkkejä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s. "Tiedonhaun opas" kurssin sivustos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usta tutkielmatyöskentely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usi tieto rakentuu olemassaolevan vara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lla (ja gradussa) lähinnä tulkitaan ja jäsennetään aiempaa tiet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ietolähteiden päätyypi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alit ("nahkaselkäiset manuaalit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ntuntijat, tutut,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urssilla ja tutkielmatyöskentelyssä ohjaaj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aalit (kirjallisu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BFD-627A-4CA1-A859-E61DE08D0B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7EEF4-4240-45BB-964D-C1484E64D0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306000"/>
            <a:ext cx="766584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Formaalit lähtee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564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tkielmatyöskentelyn perus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sisijai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yrittävä käyttämään näit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kuperäistä luotettavaa tiet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kkelit tieteellisissä lehdissä ja konferensseissa, raportit, opinnäytte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entit, lait ja asetukset, standard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issijai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ödyllistä jäsentelyä ja tulkintaa, muttei alkuperäistieto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janveto joskus epäselv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pikirjat, kokoomateokset, yleiskatsaukset (survey), "newsletters", sanastot, j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914400"/>
            <a:ext cx="388620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Miljoonan kirjan lukemi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ei vedä vertaa yhden lauseen ymmärtämisel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Jos joku kysyy, san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Tunne mielesi sellaisena kuin se on.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Ryoka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(suom. </a:t>
            </a: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Kai Niemine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ti Nykäne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543-8179-4F2A-8451-8D39C10EA8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BEED8-AFE5-4C77-9269-9F01C3CB0B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09:18:42Z</dcterms:created>
  <dc:creator>Teemu Kerola</dc:creator>
  <dc:description/>
  <dc:language>en-US</dc:language>
  <cp:lastModifiedBy>mnykanen</cp:lastModifiedBy>
  <cp:lastPrinted>2001-01-15T12:56:45Z</cp:lastPrinted>
  <dcterms:modified xsi:type="dcterms:W3CDTF">2002-01-14T07:51:31Z</dcterms:modified>
  <cp:revision>116</cp:revision>
  <dc:subject/>
  <dc:title>Tieteellisen kirj. kurssi</dc:title>
</cp:coreProperties>
</file>