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BEAF-174D-419F-9054-DB0DD149C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56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656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8B3E-0749-43E7-A9B6-9C4C5AAA2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3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4000" y="1981080"/>
            <a:ext cx="373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73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14000" y="4130640"/>
            <a:ext cx="373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DD88-7179-487E-896F-B7387A0C9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465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480" y="1981080"/>
            <a:ext cx="2465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68600" y="1981080"/>
            <a:ext cx="2465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465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480" y="4130640"/>
            <a:ext cx="2465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68600" y="4130640"/>
            <a:ext cx="2465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CBD6-F416-4C92-9E01-A225FF7BC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656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BB4D-726E-405A-9908-641FF839B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56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437E-5EFC-43BD-A276-513455FD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3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14000" y="1981080"/>
            <a:ext cx="373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74DB-E8EF-40EB-AE34-CD7127C47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14F6-FB26-47B4-9AEC-2F80C2485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306000"/>
            <a:ext cx="7665840" cy="67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7C15-453F-4EB5-A700-5F89180E3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3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14000" y="1981080"/>
            <a:ext cx="373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73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C32F-472A-4559-A021-7145CCDE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3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14000" y="1981080"/>
            <a:ext cx="373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14000" y="4130640"/>
            <a:ext cx="373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C5B2-FF53-48B0-B36F-EB10A285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3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14000" y="1981080"/>
            <a:ext cx="373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656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5973-033C-48C8-A9B7-BD278A14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73DA06E-5CA0-4CA4-A666-30E2D1B8B79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4B6CC55-669F-4E7D-9965-E684471235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990720" y="1981080"/>
            <a:ext cx="7656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Tieteellinen kirjoittaminen 7/7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01064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ietojenkäsittelijä joutuu esitelmöimää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minaareis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onferensseis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öissä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projektiehdotukset, projektien raportointi, …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uullisen esityksen perustee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yksittäisen esitelmän (esim. seminaarin) kannal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voitteena yksittäisen kirjoitelman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raportin, artikkelin) esitte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eriaatteet sopivat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osi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myös luennointii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obel, J.,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Writing for Computer Scienc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luku 11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rberry, I., How to Present a Paper in Theoretical Computer Science: A Speaker's Guide for Students.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CM SIGACT New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31, 1 (2000), 77-86. (Linkki kurssin sivulla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41120" y="1143000"/>
            <a:ext cx="4022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000000"/>
                </a:solidFill>
                <a:latin typeface="Arial"/>
              </a:rPr>
              <a:t>Bore</a:t>
            </a: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fi-FI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. A person who talks when you wish him to list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i-FI" sz="1200" spc="-1" strike="noStrike">
                <a:solidFill>
                  <a:srgbClr val="000000"/>
                </a:solidFill>
                <a:latin typeface="Arial"/>
              </a:rPr>
              <a:t>Ambrose Bie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43DE-CF4E-4765-B124-3154AFAE787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A6EE68-3FF1-419B-A0E8-D30C5FC02B0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Esitystekniikkaa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656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2960" indent="-2829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lem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uhuja viestii itsellää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le oma (ryhdikäs ja positiivinen) itses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ta kuulijat huomioon (katsekontakti!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atso kuulijoihin, mutta älä tuijota yksittäistä kuulija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uheenjohtajaakin syytä seuraill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le innostunut asiastas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annattaa vaikka vähän teeskennellä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u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iittävän kuuluva, selkeä ja hid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yös tauot toimivat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paremmin kuin "öö…"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I valmiin tekstin ääneenlukua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eluummin muistiinpanot, joissa avainsanoja ja -fraasej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ikkeus: "juhlapuheet"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ellei aiempaa kokemust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59D1-480C-42C8-A65E-B6223CAD291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53B091-FE45-42B9-9072-5B00E74E513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Esitystekniikkaa (2)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56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erusasioiden muistutusluonteinen selittäminen kannattava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akenteen välittäminen kuulijoil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iittauksin: "edellä näimme…", "seuraavaksi näemme, että … mutta sitä ennen on tutustuttava …"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iheen vaihtuminen hyvä tehdä selväksi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äänenkäytöllä painottamin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"Tämä on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KESKEINEN HAVAINT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"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CCC8-2B98-46AF-AAA2-9D8F994E28F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629FD4-F373-4313-9218-DF23FB4DD1A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Esitystekniikkaa (3)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656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aro yksityiskohtiin juuttumis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hjelmakoodi ja algoritmiset detaljit hankalia selittää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itelmän tarjoaman korkean tason idean tai yleiskäsityksen tarkoitus tukea yksityiskohtien selvittämistä kirjoitelmas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Kuulijoita häiritsevät tavat voivat haitata sanoman välittymistä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ermostunut liikuskelu, kynän napsuttelu ym;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jektorin peittäminen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uonteva liikkuminen ja eleet kuitenkin elävöittävät (myös puhujaa itseää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lä ylitä varattua aikaa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minaarissa esim. 40 tai 90 min, konferenssissa 15-30 mi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armista esitykseen varattu aika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ähtää yleensä pituuteen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- 5 min (kysymyksille jne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0979-5B6C-41A6-8236-63DEAE65235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31EB7E-7382-4B0D-8280-11A302B4881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Kalvotekniikkaa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65648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Kalvot (piirtoheittimellä tai dataprojektorilla näytettävät) ovat esityksen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uk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yleisölle: asioiden painotus, kontekstin osoittamin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uhujalle muistilapp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skusanat, avainfraasit, lyhyet lause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äsiteltävät esimerk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uvat, kaaviot, kaavat, (taulukot): käsittele ja selitä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äljä ja riittävän iso tekst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irjasinkoko 22 - 28 pistettä (tai selvä ja iso käsinkirjoitu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i tekstisivujen kopioi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älitä esityksen rakenne kalvoill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oitussivu, esityksen runko, otsikoint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C690-003B-41BB-B037-045B69395EF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BE4A3A-1AEB-44FF-98DA-51A79C305DE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Kalvotekniikkaa (2)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56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Kaikki kalvolla olevat asiat pitäisi käsitellä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ikä juuri muita (ainakaan pitkää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i suoraa ääneenlukemis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Kalvot mahdollisimman itsenäisiä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uulijoiden hankala muistaa edellisen kalvon sisältöä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oskus käytössä kaksi projektor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Kalvojen peittäminen ja päällekkäin asettelu yleensä hankalaa ja monista häiritsevää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ikallaan esim. tapahtumasarjan havainnollistamiseks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uom: teippi ei välttämättä ole kalvolla aivan läpinäkyvää 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vastaavasti kumilla pyyhitty kalv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420B-5C5A-4016-A5AC-74F04544311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EF4C37-950B-41EE-B9AB-27FE0EBFED3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Kalvotekniikkaa (3)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56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uhu ihmisille, älä kalvolle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äsiteltävän kohdan osoittaminen mieluuummin kalvolla kuin valkokankaalla selin. Entä dataprojektorit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ärit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yödyllinen korostuskeinona ja eri tyyppisten kaavion osien erottajan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aikki ei toimi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eltainen tuskin näkyy,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moin siniset tai pienet punaiset kirjaimet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ummalla pohjall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unavihervärisoke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eluummin luettavat kuin näyttävät kalvot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3720-DD44-4F2E-8709-CBAC3F764C6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1D728D-6F43-4279-A746-D4FF626E7B1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Kalvotekniikkaa (4)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Kalvojen määrä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sein liika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uulijoiden pitäisi ennättää lukea kukin kalvo ainakin muutamaan kerta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alvo / 1,5 - 3 min sopiva – vauhti riippuu puhujasta ja tilantees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rittäin lyhyessä ja tarkasti valmistellussa esityksessä jopa kalvo / 60 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Kalvojen tuottaminen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werPoint: hyvä esitysohjelma (esim. nämä kalvo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ri versioiden välillä yhteensopivuusongelmia: vamuudeksi paitsi sähköinen esitys myös kalvotulosteet mukaan!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TeX: hyvät matematiikkaominaisuudet, muuten hieman hankal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kkaus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lide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vakiona, mutta jälki pelkistettyä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kkaus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eminar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suosittu, mutta ei aina yhteensopiv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oi "kierrättää" tekstimateriaaliaan, kunhan sovittaa sen kalvoiksi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äsin: OK,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jos siisti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; edullista ja nopea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C1FB-F3A3-4CE0-8D0E-F9283F12780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BB7FF2-F67A-4563-B04E-4BD653DD27E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Esityksen ajoittaminen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656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yleensä vaikea pysyä esityksen aikatauluss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keinoja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tukäteen ääneen harjoittelu: itsekseen, peilin edessä,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auhalle, kaverille, 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alvojen kans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itys usein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hitaampaa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kuin harjoitus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äliaikatavoitteet kalvopohjilla tai muistiinpanoissa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 min, 10 min, 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uheenjohtaja näyttää kun loppu lähestyy – hänellä on valta ja vastuu katkaista ylipitkä rönsyi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oustavasti sivuutettavissa tai sisällytettävissä oleva materiaali esityksen loppupuolella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imerkkejä tm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ityksen muuttaminen "lennossa" on helpompaa kalvoilla kuin dataprojektorill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FA72-22A1-4A12-A730-28F3DE67DD2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DC8656-EBDF-415D-9443-983B5975CE4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Jännittäminen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837720"/>
            <a:ext cx="765648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2960" indent="-2829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Kohtuullinen jännittäminen kuuluu esiintymise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drenaliini saa skarppaamaan muttei lukko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iiallisen jännittämisen välttäminen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almistautuminen vapautuneen esityksen edellyt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alvojen tai muistiinpanojen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rauhalline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läpikäynti ennen esitystä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Yleisö on lähtökohtaisesti myötämielin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iljaisuus ei aina vaarallista (varsinkaan Suomessa …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älikysymykset ja kommentit lähtökohtaisesti positiivinen asia (eli aitoa tiedonhalua), siksi otettava sellaisin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tä hankala, häiritsevä tai toistuva kysyjä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"Voisimmeko keskustella asiasta esityksen jälkeen?"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uutama epäonnistunut esiintyminen ei kaada maailmaa eikä edes ura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oka (hyvänkin) esiintymisen jälkeen on itsekritiikin paikka: ei riitä vain kerätä kokemuksia, niistä pitää myös oppia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45D1-A240-40B5-9700-C360A3C91AD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AB9C5D-6E93-46DA-B960-9391A3134B0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666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Yhteenveto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720" y="990360"/>
            <a:ext cx="765648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yös suullisen esiintymisen taidot uralla oleellis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Yleisön huomioimin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sällön valin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äsente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ittämin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isuaaliset apuväline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yös suullisena esiintyjänä oppii ja kehittyy harjoituksen ja kokemuksen kaut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256360" y="4572000"/>
            <a:ext cx="35366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Vaikuttava on komean nuorukaisen muoto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hän on lukenut laajasti historiaa ja klassikkoj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Häntä puhutellaan herraksi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kaikki kutsuvat häntä oppineeks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Mutta hänelle ei ole tarjottu virka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eikä hän osaa käytellä aura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Talvet hän kulkee kuluneessa puuvillapuvuss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näin kirjat vievät ihmisen kurjuutee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i-FI" sz="1200" spc="-1" strike="noStrike">
                <a:solidFill>
                  <a:srgbClr val="000000"/>
                </a:solidFill>
                <a:latin typeface="Arial"/>
              </a:rPr>
              <a:t>Hansh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6B99-529D-429D-9E6D-1F26943AE8E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71F029-CDC7-4DEB-B608-9F511202A06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Luennon sisältö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56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uhuttu ja kirjallinen esit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sityksen valmistel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sällön valin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äsente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sitystekniikka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Kalvotekniikka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ngelm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itelmän ajoittamin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ännittämin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Yhteenvet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9453-7921-4E32-B908-B94D72ED77A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4EBE9E-384C-406A-89A1-9957A2B8626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Puhuttu ja kirjallinen esity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56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sitelmällä ja kirjoitelmalla on molemmilla sanomaa palveleva johdonmukainen raken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uhe-esityksen erityispiirteitä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emporaalisuus, lineaarisuu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kuulija puhujan armoill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itelmän "juonen" oltava kirjoitettua esitystä yksiselitteisempi ja selkeämp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eskittymistä syytä tukea visuaalisin apuvälinei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iston tar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orvien ja aivojen väli on kohinain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"Kerro ensin, mitä tulet kertomaan. Kerro se.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opuksi kertaa mitä olet kertonut"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isto ilmaisua ja käsittelyä varioid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0F56-2F68-4C36-A8B9-1A1EE10A319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7A4DA0-A061-4D69-A3B1-78064C0F22E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Esityksen valmistelu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6564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isällön valinta: mitä kertoa kuulijoill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itystilanne ja kuulijakunta huomioitava sekä sisällön että esitystavan valinnass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Yksi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pääsanoma: oleellisin asia kuulijoiden ymmärrettäväksi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ääsanomaa tukeva sisältö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yleisö ei innostu vaikeista ja tarpeettomista asiois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bstrakti teoria vaikeaa esittää kiinnostavast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ytkentä laajempiin yhteyksiin: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iksi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kiinnostavaa tai hyödyllistä – vasta sitten mite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jos silloinkaan …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sityksen jäsente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5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neerinen rakenne: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. Johdanto 2. Runko 3. Teknillisyydet 4.Yhteenvet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ityksen pituus ja yleisö vaikuttav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tsikointi aiheen muka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BB93-2002-4C59-90D8-3E00BC3A10F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C2BEB5-3E90-4291-A5A0-299B5816936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Esityksen jäsentely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76564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0. Aloitus(kalvo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ityksen aihe, puhuja (+ mahd. kanssakirjoittajat), organisaatio (+ projekti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. Johdant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ärkein osuus, koska ratkaisee alkavatko kuulijat seurat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äsiteltävä aihe tai tarkasteltava ongelma kuulijoille selväksi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elenkiinnon herättäminen: motivointi, kiinnostava väit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minaari- tai konferenssiesitelmässä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ustat, aiempi tutkimus (lyhyesti!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äsitteistö, terminologia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tai vasta rungossa, tarpeen mukaa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yön kontribuutio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ityksen jäsentelyn esitte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i välttämätön lyhyessä (alle 10 min) esityksessä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7CE0-6D07-4833-9DC1-F8E01739E7C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A92FB3-0515-41ED-A671-A4F32EEE91E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Jäsentely: 2. Esitelmän runko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56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sitelmän keskeinen sisält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yön tulokset / aiheen keskeiset asi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ulosten tai asioitten merkit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tivoitunut kuulija voi paneutua asioihin itsenäisestiki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tivoitumaton kuulija tuskin syventyy seuraamaan teknillisyyksiä(kää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ulosten perustelujen hahmottel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distusten ide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ärjestelmän rakenne korkealla tasoll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iteltävän tekniikan pääpiirte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7C67-CCDD-465F-8FC7-75A5DC0F11F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1C5A97-C1D5-479A-BEAC-41FC93A9492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Jäsentely: 3. Teknillisyydet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56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yleensä vain pitkähköissä (yli 30 min) tai asiantuntijoille suunnatuissa esityksissä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onkin avaintuloksen huolellisempi perustel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okin tekniikka tarkemmin esiteltynä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onkin järjestelmän keskeisen toteutusratkaisun kuva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sitelmä usein "mainos" kirjoitelman / (tutkimus)työn sisällöstä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hdollisesti myös joidenkin kirjoitelman aukkojen täydentämin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C8E5-7824-4019-9647-22512B23D39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90858D-98AD-49AC-B2EC-7F8066D5487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Jäsentely: 4. Yhteenveto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656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ärkeimpien aiheiden kerta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uulijoilla kuulemansa perusteella mahdollisuus ymmärtää esitettäviä havaintoja ja arvioi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im. ensin lähtöongelman palautus mieleen, sitten ratkaisuehdotuksen ydinidean palautus miele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hdollinen jatkotyö tai -kehitys,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voimia ongelm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uheen lopet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im.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"Kiitos mielenkiinnosta. Vastaan mielelläni kysymyksiin."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Yleisön oltava varma että todella lopetit: ei "äänen hiljaista häipymistä kuulumattomiin"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1763-56D5-4A31-87A5-BE8B5340C0C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469CDC-029F-4FAA-B8E8-7AE56CE3F06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c0128"/>
                </a:solidFill>
                <a:latin typeface="Arial"/>
              </a:rPr>
              <a:t>Tilaisuuden puheenjohtaja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6564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engl. (Session) Chai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varsinkin seminaareissa, konferensseissa,… joissa monta esitystä peräkkä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ennen tilaisuutta kannattaa tavata lyhyest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hänen vastuullaan on tiedottaa yleisölle poisjäänneistä ja aikataulumuutoksis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nimesi ääntäminen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sitystä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enne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esittelee aiheen ja puhuj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yhyesti: otsikko, puhujan nimi, hänen taustayhteisönsä (yliopisto, yritys,…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sityksen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kuluess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huolehtii aikataulussa pysymisestä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sityksen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jälkee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jakaa kysymyspuheenvuorot yleisöl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D014-F7F4-4549-A8EF-68F1611E3D5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180ACC-6C76-49FC-9F47-56B2BFC0EF0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17T09:18:42Z</dcterms:created>
  <dc:creator>Pekka Kilpeläinen</dc:creator>
  <dc:description/>
  <dc:language>en-US</dc:language>
  <cp:lastModifiedBy>mnykanen</cp:lastModifiedBy>
  <cp:lastPrinted>2000-10-24T06:23:08Z</cp:lastPrinted>
  <dcterms:modified xsi:type="dcterms:W3CDTF">2002-02-25T09:17:44Z</dcterms:modified>
  <cp:revision>105</cp:revision>
  <dc:subject>Suull. esityksen perusteet</dc:subject>
  <dc:title>Tieteellisen kirj. kurssi</dc:title>
</cp:coreProperties>
</file>