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F17-7ACD-4F2F-9C78-701AEEB1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9B9-AA5D-43F4-A497-52C21028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D17-351B-4CE5-B4A7-5C416713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860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860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E9B-0B11-4817-B1C6-B2D8FDD2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6611-C159-4BD5-B045-282CD330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44F-8C86-45D3-9158-2F45F417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168-CDA3-4B06-B74D-2A565D3E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9E6-71FD-4C01-B720-B3063831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6000"/>
            <a:ext cx="766584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C4A-5A27-4487-8265-9CDCE16C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645-37F8-4D53-BB3F-6FD9E6A5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82B-1FBD-46C1-836C-99CBB1A8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F7C-869E-412A-8DED-AE3FC98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0275A8-5154-4978-A16A-78F99E62E0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200437-285C-4BC3-9125-1C260CC3A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 5/7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01064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itystekniikan erityiskysymyksi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ette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inauk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ulukot ja kuv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gorit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av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B1A-0C64-4D7D-B0C5-A546FB320D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31407-A7C0-4A41-A732-5C8079F50A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Kuvat ja taulukot: otsikointi ja viittaaminen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656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va 3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scal-testien tulokset [Mit92, s. 123]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termannin koetulokset esitetään kuvassa 3.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ff9966"/>
                </a:solidFill>
                <a:latin typeface="Arial"/>
              </a:rPr>
              <a:t>(Suomen kielessä viittauksen </a:t>
            </a:r>
            <a:r>
              <a:rPr b="0" lang="fi-FI" sz="2000" spc="-1" strike="noStrike" u="sng">
                <a:solidFill>
                  <a:srgbClr val="ff9966"/>
                </a:solidFill>
                <a:uFillTx/>
                <a:latin typeface="Arial"/>
              </a:rPr>
              <a:t>k</a:t>
            </a:r>
            <a:r>
              <a:rPr b="0" lang="fi-FI" sz="2000" spc="-1" strike="noStrike">
                <a:solidFill>
                  <a:srgbClr val="ff9966"/>
                </a:solidFill>
                <a:latin typeface="Arial"/>
              </a:rPr>
              <a:t>apitalisointi vaihtelee; ole konsistentti ”tilaajan” kanssa ja saman tekstin sisällä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ttermann on esittänyt laajaan koeaineistoon perustuvia tuloksia (kuva 3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uvia ja taulukoita käsiteltävä tekstiss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etoaminen argumentoinnin tukena, oleellisten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tai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iinnostavien asioitten korostamin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peelliset lisäselitykset (otsikko yleensä vain muutamia sanoj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hdollisimman lähellä ennen kuvaa/taulukko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ae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ae00"/>
                </a:solidFill>
                <a:latin typeface="Arial"/>
              </a:rPr>
              <a:t>LaTeX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va/taulukko heti sen kappaleen jälkeen jossa ensimmäinen viite jolloin automatiikka sijoittaa sen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yleensä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järkevästi. "Käsipeli"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vielä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turhauttavampaa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154-20FE-4EBD-AFB1-C54B717B80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9EDA1-7577-4F50-9344-BAB90470C8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Kuvat ja taulukot: sijainti ja sisältö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va/taulukko ei saisi katkaista tekstikappalet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in esim. seuraavassa sivun ala- tai ylälaida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vat eivät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o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yhtäjaksoisen tekstin osi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ienet tauluko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hdollisest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kuten kaavat - jos tarvitaan "vain tämän kerran juuri tässä kohdassa"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ae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LaTeX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"kelluvat elementit" joiden paikka voi elää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vien sisältö vaihtel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aviot, diagrammat, teksti (algoritmit, ohjelmaesimerkit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stin tilaajalta joskus tarkat(kin) ohjeet sisällöstä, otsikoinnista ja viittauskäytännö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merkkejä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äkelä, M.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itystekniikka ja suullinen esitys sekä luku 6 teoksessa Zobel, J., Writing for Computer Science. Springer, 1997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unktioiden kuvaajia ja tilastollisia diagrammeja piirtää esim. julkisohjelma </a:t>
            </a:r>
            <a:r>
              <a:rPr b="1" lang="en-GB" sz="2000" spc="-1" strike="noStrike">
                <a:solidFill>
                  <a:srgbClr val="00ae00"/>
                </a:solidFill>
                <a:latin typeface="Arial"/>
              </a:rPr>
              <a:t>gnuplo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opas kotisivull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F35-32A1-4589-B2A8-7308FC3E20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492BF-91CD-40E1-8FF9-6F1A4A3467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c0128"/>
                </a:solidFill>
                <a:latin typeface="Arial"/>
              </a:rPr>
              <a:t>Määritelmät, esimerkit, lause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ääritelmä 1.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Teoreeman kaltainen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(engl. theorem-like)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osio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on tekstin sisällä oleva, paikkaansa sidottu, ympäristöstään visuaalisesti erottuva, myöhempää viittaamista varten otsikoitu ja numeroitu tekstikapp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vallinen esitystapa on lihavoida numeroitu otsikko,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korostaa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sisältö, sekä jättää tilaa ylle ja alle. (Huomaa määriteltävän käsitteen korostus ja alkukielinen asu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simerkki 2.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Määritelmät, esimerkit ja matemaattiset  tulokset (lauseet ja apulauseet) ovat teoreeman kaltaisia osio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Lause 3. 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eoreeman kaltaiset osiot ovat hyödyllisiä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odistus.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en matemaatikot eivät käyttäisi niitä koko ajan.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.O.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ita todistuksen loppumerkkejä ovat Q.E.D. ja "laatikko"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241-9C01-45FD-BCDD-88ABF2AB656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ACDD5-1007-46B3-88AF-B662942EB7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lgoritmi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i-FI" sz="2000" spc="-1" strike="noStrike">
                <a:solidFill>
                  <a:srgbClr val="000000"/>
                </a:solidFill>
                <a:latin typeface="Arial"/>
              </a:rPr>
              <a:t>Miten yhdistää inhimillinen luettavuus ja tietokoneellinen tarkkuus? Selittämällä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ilaisia esitystapoja, m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meroitu askelluette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"Jos K on epätyhjä, palaa askeleeseen 2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eudokood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pii kuvan sisällök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oi johtaa liian detaljoituun esitystas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esifien ohjelmointikielten piirteitä tulisi välttää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"proosakoodi" tai "kirjallinen" (literate) ohjelmointi (Zobel)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uokaavi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 suosittele - varsinkin rekursion esittäminen vaikea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Yhdessä tekstissä ei montaa eri formalismia samalle asiall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imerkkejä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. Zobel, s. 107-1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2CE-A1A8-4CD3-9E7A-A660C49FC1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EDB85-22E8-42E8-BB96-FEF7961FCF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98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aav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656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na virkkeen os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ltava luettavissa sujuvas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ksinkertaiset tekstiriveillä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rkeät tai monimutkaiset omalla rivillään sisennettyn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seen predikaattia ei kuitenkaan liene hyvä matematisoida (epä)yhtälömerkiksi: "Koska n&gt;1 </a:t>
            </a:r>
            <a:r>
              <a:rPr b="1" lang="en-GB" sz="1800" spc="-1" strike="noStrike">
                <a:solidFill>
                  <a:srgbClr val="618ffd"/>
                </a:solidFill>
                <a:latin typeface="Arial"/>
              </a:rPr>
              <a:t>päte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niin …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ittausta varten numero (suluissa) oikeaan lait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avoissa esiintyvät muuttujat syytä erottaa muusta tekstistä systemaattisesti, esim.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ursivoimal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LaTeX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ath itali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$x+y$, \[T = n_k  t_k + n_r  t_r \]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oritusajalle saadaan näin lause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 =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3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ämä kaava on selkeämpi kuin kaava (2), sillä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A05-C0F3-4955-B010-0B63785880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B9DD8-F613-4860-BA41-88DA29E17C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aavat: yleisiä ohjeit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uttujien "tyypitys”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(auttaa sekä lukemista että ymmärtämistä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I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ään kerätään saavutettavat solmu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AN: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ukkoo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kerätään saavutettavat solmut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i kaavoja (numeroita, numerovälejä,...) lauseen alkuun tai peräkkäi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uuten lause- ym. rajat vaikeita hahmotta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I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kainen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n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positiivin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AN: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kio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positiivinen kaikilla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i =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, …,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 n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maali esity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kaavat, algoritmit, …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käyttöön - mutta vasta sitten kun "luonnollisen kielen" keinot eivät enää riitä takaamaan esitykselle yksikäsitteistä tulkintaa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olkoo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=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/2" vastaan "olkoo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lukujen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keskiarvo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BB1-EFAC-4CD1-BFEC-B6E26EAC7C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2FC0D-F1B6-40A1-9B31-C577DC7219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tystekniikka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voitteena aina sanoman perilleme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läpilukuvaihde" vs. "visuaalisen hahmottamisen vaihde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kijan vaihteenvaihtotarve minimoita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hmottamisen apuväline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suaaliset (tekstin jako ja ryhmittely, otsikointi, typografi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nalliset (lauserakenne, sanonta, tyyli, kielen virheettömy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don esitysmuo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orasanainen teksti (sisältäen kaavat, luettel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stin ulkopuoliset element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vat, taulukot, esimer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aate: tieto esitellään vain kerr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viin, taulukoihin ym. silti viitattava tekstissä;</a:t>
            </a:r>
            <a:br>
              <a:rPr sz="1800"/>
            </a:b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ei tarvetta tunnu olevan, tarvitaanko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yseistä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menttiäkään?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199-6F53-4CD5-9D30-090BB8CA0E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FB917-4568-41FC-942C-A9E42365F2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uettelo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656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voin tarp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ensä tavoitteena suorasanainen teks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ettelot usein merkki luonnosmaisuude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skus selkeyttä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. käyttöohjetyylisissä dokumentei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s tarvetta viitata luetelman osi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oidaan esittää useilla tavoil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meroituna list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abialaisin numeroin: 1., 2., 3.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omalaisin numeroin: (i), (ii), (iii)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. ranskalaisina viivoina (engl. "bullet points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. määritelmälistana 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stiin upotettu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2D6-0CDA-40A6-A615-E5E37B4D8D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CCC62-5B82-469A-9143-407792F620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uettelot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täjaksoisen tekstin os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kkeen osa tai jono virkkei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rmaalit välimerkit (paitsi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että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anskalainen viiva / "bullet"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riittää pilkuks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eltävä kaksoispiste (tai ei) lauseen muodon muk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ppuun piste - ei siis pitäisi enää jatkaa lausetta!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etelman osien samanmuotoisu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sekaisin esim. yksittäisiä sanoja ja lauseita (samantasoisuusperiaate kuten aliotsikoinnis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lloi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umeroit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s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n järjestys oleellinen (suoritusaskeleet tms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n tarve viitata luetelman osi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A7A-E4FA-4E14-9E3E-4B3E454D79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C6B80-9208-4C3C-BDD5-7E1BDD8CF3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uetteloesimerkki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goritmi on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irheellin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jos jokin sen suori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ottaa väärän tuloks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htaa virheelliseen tai määrittelemätömään tilanteeseen t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 päättymätön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goritmi voi olla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irheellin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kolmesta syystä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kin sen suoritus tuottaa väärän tuloks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kin sen suoritus johtaa virheelliseen tai määrittelemätömään tilanteesee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kin sen suoritus on päättymätö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sää esimerkkejä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ks. esim. Mäkelä, M., Esitystekniikka ja suullinen esit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73C1-1732-41D6-8741-8706D5D305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60AA4-25E9-454E-8D2B-1752068387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äyttö - lainaus - varkau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6564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n esitä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oisen kirjoittajan ajatuks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nu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milla sanoillas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ja rakennuspalikkana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inun omassa ajatusrakennelmassas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 niin viittaus (heti) perään j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käyttö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 on luvallin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tta jos päätätkin esittää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toisen kirjoittajan ajatuks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hänen omilla sanoillaa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niin se o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aina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jonka pitää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ottua selväst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masta tekstistäs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ikki muu on toisen kirjoittajan ajatusten ja tekstin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luvatonta käyttöönott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li (kirjallinen)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varka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tojenkäsittelytieteessä suoria lainauksia käytetään harvoin – yleensä lainataan toisilta ajatuksia omien osiksi, mutta ei kommentoida niitä (humanistien tapaa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87800" y="1500120"/>
            <a:ext cx="5057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s lainaat yhdestä lähteestä, se on varkaut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s lainaat monesta lähteestä, se on tutkimu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1FF-1E2C-4A33-A0C8-FB046BF90A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F61CB-8162-486D-AE2A-60639C21D0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6360"/>
            <a:ext cx="766584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ainat julki!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5648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YHYT (virke tai pari): teksti lainausmerkkien sisään ja viittaus sulkevan lainausmerkin perää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Jos ottaa seitsemän peräkkäistä sanaa suoraan lähteestä, on se jo lainaus!" (anon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uomeks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kirjoitettaessa nämä "tavalliset"  lainausmer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ITKÄ: teksti sisennettyjen marginaalien väliin ja viittaus kavennetun alueen (tai lainausta edeltävän esittelytekstin) loppuu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omentaminenkin on lainaamista - kääntäjä näkyviin viittauksen yhteytee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ös lainattuun tekstiin tehdyt muutokset näkyvii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säykset [hakasulkeissa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istot ellipsin "…" lisäyksi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s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orostuksi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niin korostaja mainittava viittauksen kan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026-B1F8-493F-BBCF-5ABD9F047C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B9174-7F40-405F-852F-7C00539A41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65840" cy="12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simerkki pitkästä lainast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6280" y="2185920"/>
            <a:ext cx="733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imerkiksi humanististen tieteiden kaksijakoisesta suhtautumisesta käsitteiden määrittelyyn käy seuraava näyte [FeA00, sivu 9] (käännös ja korostukset luennoijan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8160" y="3328920"/>
            <a:ext cx="5928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Me] elämme maailmassa jossa mikään ei ole pysyvää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ääritelmät näyttävät aina petollisilta […] Minulla 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itä kärsivällisyyttä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anapeleih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tahdon jokai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utkimuksen ainaki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yrittävä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anoa jotakin varma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280" y="4776840"/>
            <a:ext cx="8397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emaattisissa tieteissä täsmälliset määritelmät taas ovat kivijal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ka päälle kaikki muu rakenneta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iaat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kijan on tiedettävä tarkasti mikä osa tekstistä on kenenkin vastuull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64480" y="3054240"/>
            <a:ext cx="1815840" cy="1663920"/>
          </a:xfrm>
          <a:prstGeom prst="leftArrow">
            <a:avLst>
              <a:gd name="adj1" fmla="val 50000"/>
              <a:gd name="adj2" fmla="val 38630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itse lain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visuaalis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elementtin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8280" y="1225440"/>
            <a:ext cx="3035160" cy="901800"/>
          </a:xfrm>
          <a:prstGeom prst="downArrow">
            <a:avLst>
              <a:gd name="adj1" fmla="val 50000"/>
              <a:gd name="adj2" fmla="val 36306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omaa tekstiä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lainauk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ae00"/>
                </a:solidFill>
                <a:latin typeface="Arial"/>
              </a:rPr>
              <a:t>esittelyin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274-F3A4-4FFA-8291-2AFD3DC8696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6C826-4A0D-432C-AA68-D3BD372454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6360"/>
            <a:ext cx="766584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uvat ja tauluko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656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ävöittävät esitystä, helpottavat selailevaa informaation hakua, korostavat keskeisiä aihei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äyttö harkiten: vain oleelliselle informaatio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innittävät lukijan huom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öläitä laat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vasta helpompaa nähdä yleistyksiä, taulukot tarkemp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sikoidaan ja numeroida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äpi työn tai luvuitta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sikko kuvan alla mutta yleensä taulukon pääll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vien ja taulukoide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tsenäisyy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 otsikon yhteydessä selityslohko jo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vittavat selitykset niille merkinnöille jotka esiintyvät vain tässä kuvassa / tauluko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hdollinen lähdevi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38280" y="1241280"/>
            <a:ext cx="4481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jatteleminen on mielenkiintoisempaa kuin tietämin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tta vähemmän mielenkiintoista kuin katselemi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oe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8BC-1A39-4A52-AC50-F246B2CB62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92066-27B1-4E51-9F5A-972DCE253F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09:18:42Z</dcterms:created>
  <dc:creator>Teemu Kerola</dc:creator>
  <dc:description/>
  <dc:language>en-US</dc:language>
  <cp:lastModifiedBy>mnykanen</cp:lastModifiedBy>
  <cp:lastPrinted>2000-10-11T10:46:37Z</cp:lastPrinted>
  <dcterms:modified xsi:type="dcterms:W3CDTF">2002-02-11T09:53:35Z</dcterms:modified>
  <cp:revision>105</cp:revision>
  <dc:subject/>
  <dc:title>Tieteellisen kirj. kurssi</dc:title>
</cp:coreProperties>
</file>