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2C3-E7EF-4040-BAD0-13693069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B00B-F8ED-43DA-829C-6CD0DC36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1DE-B543-452F-AF2C-8D5898BC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860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860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40C-A3D2-4CD0-9953-710844AE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834-BA80-4381-BEDB-D63A74A2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456-DE1E-4F92-9D8E-C84F522E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38C-82EE-4E49-88A8-22DD784E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73F-C3D0-4456-A9B9-16A53DE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6000"/>
            <a:ext cx="766584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EC1-9ACF-406A-B006-B2070C7A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3B9-2264-41FD-B398-89FA94A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590-03CA-4845-818B-01EC4CA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073-6703-4057-9227-0A438D4A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267BCC-72A0-4AA8-B55C-04264073CE1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83D76A-4AA3-476B-814F-9BD652C37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 2/7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: Mitä on tieteellinen kirjoittamin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äkemysten referoint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I: Lähteiden käsit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inka lukea tieteellisiä artikkelej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II: Lähdeluette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ähdekirjallisuuden esittäminen tutkielma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49A-08EA-45EE-BC03-7CFD5056833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6737C-81CB-4BBE-9363-FACD765D55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Tieteellinen kirjoittaminen: prosessi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656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llisten tulosten esittämistä kirjallisessa muodoss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emmin julkaistujen tutkimusten systemaattista tutkimista ja sen perusteella uuden tutkimuksen tekemistä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tsittävä ja vertailtava lähdemateriaa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taan tietoa, seulotaan tärkein, jäsennetään loogisesti ja kirjoitet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jatusten siirtämistä paperil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tiedon analysointia, jäsentämistä ja esittämi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eratiivista: tekstiä useita kertoja läpikäyvää;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kstin ohella ajatusten jäsentely tarkentu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oittamista tieteestä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(tieteen popularisointia?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975-C6B9-4496-9C11-A8EF10EE5D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DC048-4418-453C-82B9-711EC04B0A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Tieteellinen kirjoittaminen: sisältö ja aihe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sältö on tekni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ypillisesti tutkimus- ja oppilaitoksissa tehtävää tutkimustyö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lokset esittäen lähtökohdat, suoritettu prosessi ja saadut johtopäätök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hepiirejä pyritään käsittelemään tyhjentäväs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jattu yhtenäinen kokonaisu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keä aihe (jotta voidaan käyttää myöhemmin lähteenä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nalan suppeahko osaongel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 asian tai idean markkinoint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ieteellisen artikkelin "myytävä" itse itsensä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iksi juuri tämä idea tai ongelma on kiinnostavaa ja merkittävää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utkimuksen motivaatio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D4B-9729-425D-8350-BC640F2C1B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1DE4B-0382-47AE-9175-9FB47A0000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Tieteellinen kirjoittaminen: sisältö ja aihe (2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elipiteet taka-alalla; faktapohjaisu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kirjoittajan mielipiteet ja kiinnostukset näkyvät aiheen valinnassa, ei tulokses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s esittää omia mielipiteitä, niin se on käytävä selvästi ilm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teja ja johtopäätöksiä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yös muiden tieteellisten artikkelien referoin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erustu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kaisempiin teorioihin ja tutkimustuloksi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välliseen aihepiiriin paneutumis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siasioih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ulkittuun ja muokattuun tieto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utkittuun ja mielellään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vertaisarviointiprosessin (peer referee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läpikäyneeseen tieto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ustantaja antaa saamansa käsikirjoituksen (usealle) saman alan nimettömänä pysyttelevälle spesialistille tarkastettavaks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etojenkäsittelyssä konferenssipaperitkin arvioidaan (useilla muilla aloilla 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edelehtiartikkelit referoidaan aina ja tarkast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F8C-2B28-4D24-A856-455FC2C087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2555C-41E8-4D19-91FE-69902915D5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: kohderyhmä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llisen kohderyhmän ymmärrettäväksi tarkoitettua teksti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kijalle, jolla on tieteellinen tau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ut aihealueen tutkij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lettaa lukijalta perustietojen omaam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llinen yhteisö tai suurempi yleis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LuK- ja FM-tutkielmissa ajateltuna lukijana samassa vaiheessa oleva pääaineopiskelija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tämänkin vuoksi kurssilla vaaditaan yhteinen lähtötietota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923-92C6-4705-AF90-1FB0E431CA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FF86F-453A-4640-88B3-620B4C9CC5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I: Lähteiden käsittelystä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ähdekirjallisuuden valinta ja siihen perehtyminen keskeinen ja vaativa osa tutkielmatyöskentely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intitekniikoita rannatonta tiedon merta var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ustava tutkimusaihe lähdeaineiston valinnan ja lukemisen ohjenuora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hin työllä pyritää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kä on keskeisintä asia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äsentävät teemat tai teoria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tkielman punainen lank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tkimusaihe täsmentyy työn edetess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0EA-FC01-409D-94BB-EF8DD4ED9D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760B4-8E90-46C6-BC3E-D753F0AE55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Lähdekirjallisuuden lukemisesta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s. esim. Frantzblau, D. S., Teaching Students to Read Papers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M SIGACT New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2,4 (1991), 35-37. (Kurssikansios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eteellisten artikkeleiden lukeminen on harjoitusta vaativa tai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ilaista tutkimustyötä kuin tenttiin lukua var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ikkea ei voi lukea läpi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oma, hyödyllinen informaati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C06-158F-43B9-85F7-16441B7876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42941-78E7-4148-8185-079779F999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nivaiheinen lukeminen (1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ita vähitellen tarkentuvia iteraatioita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voite lopettaa mahdollisimman p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n artikkeli havaittu hyödyttömäk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n saatu artikkelista haluttu hyö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ko artikkeli ylipäätään kiinnostava tai hyödyllin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ivistelm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lmäily: johdanto, (sisällysluettelo,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yhteenve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ähdeluette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ikuttaako liittyvän tarkasteltavaan aihepiirii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usia tärkeitä lähteitä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ko artikkelin selai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5F57-7CCF-4ACC-9478-C8DF24C4750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AEFFA-7F8D-4447-8B55-ABFA554487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nivaiheinen lukeminen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ysymyksiä selaillessa ja lukies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kä on artikkelin ai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ntribuutio: mitä uutta, kiinnostavaa tai tärkeää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kä on artikkelin rakenn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hin osiin kannattaa paneutu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kä on tärkeää, helppoa, vaikea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ikoiva tai täydellinen läpiluk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ältä alkuvaiheessa detaljeihin juuttum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ko (varsinkin vähemmän keskeiset) väitt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Älä ala tarkistaa lähteitä tai yksittäisiä sano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pulta tarkemmin (jos asia sen arvoinen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DDB-11A3-44B2-B6BD-A46E718CFFD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237EA-FCAC-4F9C-BB8C-959AF1627D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ntä jos artikkeli ei "aukene"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ritä ottaa ongelma haltu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mat ratkaisuyritykset voivat auttaa ymmärtämään kirjoittajien ideoita uudella lukukerr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ritä toteuttaa esitetty ratkaisu ohjelmallisesti (ensin paperill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ysy neuvo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ntuntijoilta, kavereilta, ohjaajalta, valvojal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lloi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Mä en tajuu tästä mitään!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ma paneutuminen todennäköisesti riittämätö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ymmärtäisitkö edes selityksen jos sellaisen joltakulta saisit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esifejä kysymyksiä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"Mistä tämä kaava tulee?"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"Onko tälle määritelmälle jotain esimerkkiä?"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"Mikä on näiden algoritmien suhde?", 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Luettu voi hahmottua myöhemmin aivojen "tausta-ajona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AA5-336D-4D2B-A09D-705EE67239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34BBE-DD1F-4A55-9776-7BC263D893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ukeminen kirjoittamisen mallin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56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ös lähteiden esitystavasta voi ottaa opp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äsentely, argumentointi, kieliasu, lähteiden, kuvien, taulukoiden ja kaavojen käyttö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le kriittine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urgeonin sääntö: 90% kaikesta on roska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ritetään tältä osin parantaa maailma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vä(kään) tutkija ei (aina) tuota hyvää tekstiä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ltaisia sääntöjä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Älä tee toisille mitä et tahtoisi itsellesi tehtävän.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Never offend anyone with style if you can do it with substance."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Watergate-toimittaja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ob Wood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"Exceptio probat regulam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rssin(kin) ohjeista saa poiketa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hyvästä syystä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A9E-0E61-4B0C-AB68-F7CDFE6C3A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BCE0A-709A-48F9-9391-A008AE5C78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I: Mitä on tieteellinen kirjoittaminen? </a:t>
            </a:r>
            <a:br>
              <a:rPr sz="3200"/>
            </a:b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Näkemysten referointia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sitetyt näkemykset muodostavat monipuolisen ja hyödyllisen määritelmän tieteelliselle kirjoittamisell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i näkökul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lei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llisen kirjoittamisen funkt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eli ja tyyl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ystavan ja sisällön laat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yksen muo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sessi tai toimi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sältö ja ai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hderyhmä, lukijaku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Jako näkokulmiin osin sumea ja päällekkäi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E9A-5CBD-429F-8787-149BCBF564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D93C2-84C1-475C-A3EC-907EBC3549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II: Lähdeluettel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56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rkoitus: mahdollistaa lainattujen tietojen tarkastaminen alkuperäislähteist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ähdeluettelos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ikki tekstissä viitatut työt (ja vain n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oskus (oheis)kirjallisuusluettelo erikse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itetiedo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hdenmukaisella tavalla (kukin laji eriksee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mmärrettävällä ja paikantamisen mahdollistavalla tarkkuudell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kistettava viitatusta lähteestä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ärjestyksessä tekijöiden sukunimien muka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i toimittajien, yrityksen, konsortion, julkaisun nimen, 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79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i harvoin viittausten esiintymisjärjestyksessä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irjoitelman lopussa on "tietokanta" käytetyistä lähteistä, kirjoitelman sisällä lähteen käyttö osoitetaan antamalla vastaava tietokanta-ava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C5E-8D23-4A09-918A-4A7761078F7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876E8-FE4D-44D4-8983-34546ABCE2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Viittaustunnistee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656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äytetään tekstissä osoittamaan tiedon tai lainauksen alkuperää: "XSLT [Cla99] on …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ivät lauseen osia vaan huomautuksia [suluissa]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: "[Nyk97] väittää, että …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AN: "Nykäsen [Nyk97] mukaan …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rssilla mnemoniset tunnisteet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lme kirjainta tekijöiden sukunimien alusta (julkaisun nimen alusta, jos ei tekijöitä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ksi numeroa vuosiluvun lopusta (meillä ei Y2K-ongelma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peen mukaan yksikäsitteistävä kirjain (a, b, c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. Nie89a, Nie89b, NiA91, KMU93, WWW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ita tyylejä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ärjestysnumerot 1, 2, 3, …  (viittaus- tai aakkosjärjestyksessä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alla yleisin liene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akkosjärjestysnumero hakasului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umanisteilla täydet nimet ja vuosiluvut: (Aho ja Ullman, 197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6FE-0457-456F-AFA6-393EA3BA82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38728-F12D-4302-8703-109F6FD155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Viittaustunnisteet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irjan osaan viittaaminen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ittauksessa annettava myös luku, sivut, tms. – muuten lukija ei löydä viitattua kohtaa paksun kirjan sisäl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Ongelma voidaan ratkaista lineaarisessa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jassa [AHU74, s. 84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6].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Witten, Moffat ja Bell [WMB94, luku 2] ovat luokitelleet tekstintiivistysmenetelmät seuraavasti:…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äkkäisten tunnisteiden listau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[AHU74</a:t>
            </a: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][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MB94]" yhteen "[AHU74</a:t>
            </a: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,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MB94]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[AHU74, s. 84-86</a:t>
            </a:r>
            <a:r>
              <a:rPr b="1" lang="en-GB" sz="1800" spc="-1" strike="noStrike">
                <a:solidFill>
                  <a:srgbClr val="fc0128"/>
                </a:solidFill>
                <a:latin typeface="Arial"/>
              </a:rPr>
              <a:t>][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MB94, luku 2]" yhteen "[AHU74, s 84-86</a:t>
            </a: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;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MB94, luku 2]" -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uokkaa mieluummin koko lause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i viittaustavoilla on sävyeroj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Dijkstran [Dij68] mukaan goto-käsky on pahasta." - neutraal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Goto-käsky on pahasta [Dij68]." – kirjoittaja samaa miel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0DC-F541-4B0E-A86C-5C92B9340B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33F95-480E-4397-A381-777CE0AF30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6360"/>
            <a:ext cx="766584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Viitetiedot lähdeluetteloss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656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stakin lähteest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kijät (kirjoittajat, toimittajat): sukunimi, etunimien alkukirjaime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tai ensimmäisen alkukirjain, tyylistä riippue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s kovin monta tekijää (&gt; 3), ensimmäisen nimen jälkeen "et al."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uom. "ja ym."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a muut po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nnistekin muodostetaan silloin vain ensimmäisen nimen mukaa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koska vain se on näkyvissä luettolos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lkaisun tai artikkelin nim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lkaisupaikan tied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vunumerot (tai luvun numero) jos ei koko julkaisu v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ksi artikkeli lehde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ksi esitelmä konferenssijulkaisu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ksi luku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ellaisesta 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oimitetusta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kokooma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irjasta, jonka eri luvuilla on eri kirjoittajat ja aihee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"Handbook of …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7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illisiä kirjoituksia samoissa kansiss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7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nnisteet luvun kirjoittaja(i)n muka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7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imittaja(t)kin mukaan lähdeluettelon viitetietoihin (koko kirjan nimen lu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604-3AB8-4162-8BCF-B464842C4C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C27DF-F54A-4F7E-AD95-3CDE9BBAB1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Viitetiedot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ntaksi voi vaihdella kirjoitelmasta toiseen, mutta yksi käytäntö yhden kirjoitelman sisällä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Kurss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 virallinen linja: "Opinnäytetyön ulkoasun malli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kkelin tai julkaisun nimen perään sekä viitetiedon loppuun piste, osatiedot erotetaan pilku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malli" kurssin kotisivulta tai kansio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ähdeluettelon syntaksin yhtenäistämine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oittajien nimet aina ens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ahylly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elkämystekstiä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voi korost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i lähdelajit erottukoot toisist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LaTeX &amp; BibTeX (&amp; make-bst/merlin &amp; nat-bib &amp;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85D-FA20-4C68-B35C-BFF6EB7314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1C5E8-2036-450F-B2D2-98378698CA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Viitetiedot (3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kaisupaikan tiedot vaihtelev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a: Kustantaja, (paikka), vuo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htiartikkeli: Lehden nimi, </a:t>
            </a:r>
            <a:r>
              <a:rPr b="1" lang="en-GB" sz="1800" spc="-1" strike="noStrike" u="sng">
                <a:solidFill>
                  <a:srgbClr val="00ae00"/>
                </a:solidFill>
                <a:uFillTx/>
                <a:latin typeface="Arial"/>
              </a:rPr>
              <a:t>v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ymi (useimmiten vuosikerta), numero, suluissa vuosi tai kuukausi ja vuo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kkeli kokoelmassa (konf. julkaisussa): kokoelman nimi, toimittaja(t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stantaja, (paikka), vuosi, t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nferenssin nimi (järjestäjä, paikka) ja ai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portti: julkaisusarja, raportin numero, paikka, vuo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WW-sivu: URL +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äivä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lloin kävit edellisen kerran tarkistamassa sivun (olemassaolon ja sisällö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rssilla yksi mahdollinen notaatio (linkki kotisivul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405-4334-412E-9605-1AD2804AEF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83350-B5AB-43D0-8999-901109DE8F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merkki lähdeluettelost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2880" y="14475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äht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8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rne, S.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he UNIX Syst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International Comput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ce Series,  Addison-Wesley, 198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n8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nnon, D. et al., Programming environments for parallel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gorithms. Teoksess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rallel &amp; Distributed Algorith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toim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 Cosnard et al., North-Holland, 1989, 101-10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N9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hne, G., Nykänen, M., Safety, translation and evaluation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ignment Calculus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dvances in Databases and Informatio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t. Petersburg, Russia, September 2-5, 1997, 295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4. [Myös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ttp://www.ewic.org.uk/ewic/workshop/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iew.cfm/ADBIS-97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.8.2000.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NU9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ahne, G., Nykänen, M., Ukkonen, E., Reasoning abou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ngs in databases.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ournal of Computer and System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cienc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59, 1 (1999), 116-162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yk9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ykänen, M.,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erying String Databases with Modal Logic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Väitöskirj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Department of Computer Science, University 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sinki, Report A-1997-3, Helsinki, 1997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080" y="1987560"/>
            <a:ext cx="1511280" cy="368280"/>
          </a:xfrm>
          <a:prstGeom prst="rightArrow">
            <a:avLst>
              <a:gd name="adj1" fmla="val 50000"/>
              <a:gd name="adj2" fmla="val 21772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kokonainen kir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5080" y="3359160"/>
            <a:ext cx="1511280" cy="368280"/>
          </a:xfrm>
          <a:prstGeom prst="rightArrow">
            <a:avLst>
              <a:gd name="adj1" fmla="val 50000"/>
              <a:gd name="adj2" fmla="val 21772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konferenssipaperi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5080" y="4807080"/>
            <a:ext cx="1511280" cy="368280"/>
          </a:xfrm>
          <a:prstGeom prst="rightArrow">
            <a:avLst>
              <a:gd name="adj1" fmla="val 50000"/>
              <a:gd name="adj2" fmla="val 21772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lehtiartikke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080" y="5568840"/>
            <a:ext cx="1511280" cy="368280"/>
          </a:xfrm>
          <a:prstGeom prst="rightArrow">
            <a:avLst>
              <a:gd name="adj1" fmla="val 50000"/>
              <a:gd name="adj2" fmla="val 21772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raport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5080" y="2673360"/>
            <a:ext cx="1511280" cy="368280"/>
          </a:xfrm>
          <a:prstGeom prst="rightArrow">
            <a:avLst>
              <a:gd name="adj1" fmla="val 50000"/>
              <a:gd name="adj2" fmla="val 21772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osa kokoelmateokse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5080" y="3968640"/>
            <a:ext cx="1511280" cy="368280"/>
          </a:xfrm>
          <a:prstGeom prst="rightArrow">
            <a:avLst>
              <a:gd name="adj1" fmla="val 50000"/>
              <a:gd name="adj2" fmla="val 21772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… </a:t>
            </a: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löytyi verkosta(kin) 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5160" y="4121280"/>
            <a:ext cx="2120760" cy="368280"/>
          </a:xfrm>
          <a:prstGeom prst="leftArrow">
            <a:avLst>
              <a:gd name="adj1" fmla="val 50000"/>
              <a:gd name="adj2" fmla="val 51800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… </a:t>
            </a: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ainakin tänä päivän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0280" y="1606680"/>
            <a:ext cx="825480" cy="749160"/>
          </a:xfrm>
          <a:custGeom>
            <a:avLst/>
            <a:gdLst>
              <a:gd name="textAreaLeft" fmla="*/ 30240 w 825480"/>
              <a:gd name="textAreaRight" fmla="*/ 795240 w 825480"/>
              <a:gd name="textAreaTop" fmla="*/ 27720 h 749160"/>
              <a:gd name="textAreaBottom" fmla="*/ 598320 h 749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“</a:t>
            </a: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et al.”: y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3 tekijä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73560" y="1225440"/>
            <a:ext cx="2349360" cy="520920"/>
          </a:xfrm>
          <a:custGeom>
            <a:avLst/>
            <a:gdLst>
              <a:gd name="textAreaLeft" fmla="*/ 86760 w 2349360"/>
              <a:gd name="textAreaRight" fmla="*/ 2262600 w 2349360"/>
              <a:gd name="textAreaTop" fmla="*/ 19080 h 520920"/>
              <a:gd name="textAreaBottom" fmla="*/ 416160 h 5209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Selkämyksen nimekettä </a:t>
            </a:r>
            <a:r>
              <a:rPr b="0" i="1" lang="en-GB" sz="1000" spc="-1" strike="noStrike">
                <a:solidFill>
                  <a:srgbClr val="00ae00"/>
                </a:solidFill>
                <a:latin typeface="Arial"/>
              </a:rPr>
              <a:t>voi</a:t>
            </a: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 korosta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Alkukirjaimet siinä kielen mukaa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040" y="615960"/>
            <a:ext cx="1511280" cy="749160"/>
          </a:xfrm>
          <a:prstGeom prst="downArrow">
            <a:avLst>
              <a:gd name="adj1" fmla="val 50000"/>
              <a:gd name="adj2" fmla="val 25208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avai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tekstist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suluit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11240" y="1378080"/>
            <a:ext cx="2044800" cy="368280"/>
          </a:xfrm>
          <a:prstGeom prst="leftArrow">
            <a:avLst>
              <a:gd name="adj1" fmla="val 50000"/>
              <a:gd name="adj2" fmla="val 29407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ae00"/>
                </a:solidFill>
                <a:latin typeface="Arial"/>
              </a:rPr>
              <a:t>Ilman kappalenumeroa - sisältöö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7240" y="387360"/>
            <a:ext cx="901800" cy="368280"/>
          </a:xfrm>
          <a:custGeom>
            <a:avLst/>
            <a:gdLst>
              <a:gd name="textAreaLeft" fmla="*/ 33120 w 901800"/>
              <a:gd name="textAreaRight" fmla="*/ 868680 w 901800"/>
              <a:gd name="textAreaTop" fmla="*/ 13320 h 368280"/>
              <a:gd name="textAreaBottom" fmla="*/ 294120 h 3682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5280" y="44928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18ffd"/>
                </a:solidFill>
                <a:latin typeface="Arial"/>
              </a:rPr>
              <a:t>itserakkaa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6019920"/>
            <a:ext cx="2514600" cy="228600"/>
          </a:xfrm>
          <a:prstGeom prst="wedgeRoundRectCallout">
            <a:avLst>
              <a:gd name="adj1" fmla="val -41287"/>
              <a:gd name="adj2" fmla="val -133333"/>
              <a:gd name="adj3" fmla="val 16667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ae00"/>
                </a:solidFill>
                <a:latin typeface="Arial"/>
              </a:rPr>
              <a:t>Tunnistetiedot kuten dokumentis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6095880"/>
            <a:ext cx="1828800" cy="228600"/>
          </a:xfrm>
          <a:prstGeom prst="wedgeRoundRectCallout">
            <a:avLst>
              <a:gd name="adj1" fmla="val 38282"/>
              <a:gd name="adj2" fmla="val -150000"/>
              <a:gd name="adj3" fmla="val 16667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00ae00"/>
                </a:solidFill>
                <a:latin typeface="Arial"/>
              </a:rPr>
              <a:t>Apusana(t) tekstin kielell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96D-FC25-4B1D-970C-EC3C993A58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A3BF0-8223-4A9A-9F15-436562F998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: yleistä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56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(Luonnon)tieteellisen tekstin tulee olla sellaista et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lukija voi ymmärtää sen </a:t>
            </a:r>
            <a:r>
              <a:rPr b="1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tasan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yhdellä tav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ja tämä tapa vastaa todellisuut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Tästä periaatteesta seuraavat kurssin muut säännö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llinen konteksti: myös lähteet tieteellisesti täsmällisiä ja tiedeyhteisön hyväksymiä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llisten julkaisujen esitystap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ärkeitä sisältö, rakenne, kieliasu ja ulkoas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lemassaolevaa materiaalia hyväksikäyttäen tuotettava kirjallinen esit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jossa omaa ajattelua jo nyt asian esittämisess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ja myöhemmin (gradu jne.) myös asiasisällöss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2206-4D63-4BDB-84F8-D39C549931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3E501-9A16-4908-80AE-0020ECD134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: funkti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älittää ja dokumentoida tieto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tietoa asiantuntijoilta kiinnostuneil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rtoa tutkimustuloksista tai uusista ajatuksis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ota ja yhdistellä aiemmin tuotettua tietoa uudella tavall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kä tuoda kirjoittajan omat näkemykset selkeästi jäsenneltyinä ja eroteltuina esil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attaa tutkittu asia osaksi kirjallista tieteellistä traditio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ktat dokumentoitava siten että tuloksia voi kyseenalaist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portoida ja selvittää uusia ajatuksia, löydöksiä ja päätelmiä; esittää teorioita, havaintoja ja tulok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003-C380-4278-A293-5751C959C1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9B6BC-E5C1-45FA-856F-B6731FB6CE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Tieteellinen kirjoittaminen: funktio (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ottaa tieteelliseen julkaisuun kelpaavaa teksti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attaa tutkimustuloksia ensisijaisesti tiedeyhteisön tieto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Lähempänä teknistä kirjoittamista(?)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n, toiminnan tai esineen toiminnan kuvaamista ja selostam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hjelman dokumentoint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A91-8974-4334-BDE6-79A9AAC8A0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0CD2-A82C-43D2-8E2E-1F0C497851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Tieteellinen kirjoittaminen: kieli ja tyyli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akohtaista ja ammattima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ksaktia ja paikkansapitävää, mutta selkokielisesti ja ymmärrettävästi esitetty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eraskielisten termien ja lyhenteiden käyttö huolell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uolellinen kirjoitustyyl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seet joskus sanahirviöitä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(pitäisi olla vältettävissä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keää, hyvin ymmärrettävää, tosiasiohin perustuv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kkaa ja täsmällistä, yksiselitteistä ja virheetön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ivan akateeminen tul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koituksena väärinkäsityksen mahdollisuuden minimoint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in kuivan asiallista, mutta kiinnostuneelle kiehtov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onallisuus ei välttämättä eduksi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(silti vivahteikasta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F02-F054-464B-9D29-5C986F7F5D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361BD-8E83-4BBE-A304-CABBB29D45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: laatu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usteltava käyttäen muiden tutkimustuloksia ja omia uusia tulok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heen esittämistä selkeästi, ymmärrettävästi ja jäsennellyst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an keskittyvää, selkeää ja tiivistä; "rönsyilemätöntä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vointi ja lukijan kiinnostuksen herättäminen eduk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innostuksen herättäneille otsikon ja tiivistelmän lupauksille on toki oltava katetta itse tekstiss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lkaisukelpoista: hyvin jäsenneltyä, kieliasu kunno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ähteiden runsas ja eksakti käytt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ytävä ilmi, mikä omaa ja mikä lainattua mielipidet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ähdemateriaalinkin oltava tieteelli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DD2-E227-4EC5-9CA9-E995667F3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9CA4F-9927-4D8F-BFAC-8B6332CC22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Tieteellinen kirjoittaminen: laatu (2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jektiivisyys: sekä hyvät että huonot puol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usteltua, johdonmukaisella ja selkeällä tavalla esitetty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llisen argumentoinnin avulla vakuuttaa lukijan asian oikeellisuude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siis argumentoinnin rakenne oltava selkeä ja näkyviss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"sekavasti sanottu on sekavasti ajateltu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isti ja selkeä (eli lukijaa häiritsemätön) ulkoasu sekä esitystap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sällön oltava selkeää ja käytävä ilmi, mihin tieto perustu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nalan kriteerit eksaktiuden suht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äsmällistä ja harkittu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äitteet, perustelut ja viitteet selkeästi ja täsmällises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7A1-E502-4160-8756-47606DE244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53A52-1EF7-4BA2-9149-22A6135674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: muot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564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mpakti ja jäsennelty esitys tuloksista ja niiden syi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sällön jäsentäminen, oikea otsikointi, kieliasun selkeys ja virheettömyys, asianmukaiset lähdeviittauks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teellisillä julkaisuilla tarkat muoto-ohj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lkaisijalta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(nyt: opettajil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ityisesti konferensseissa maksimipitu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keyden ja ymmärrettävyyden vuoksi sovitut muodon ja esitystavan konventi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ttavat lukij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vitsemansa tiedon voi löytää lukematta koko tekstiä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minaista havainnollistaminen kuvilla sekä runsaat lähdeviittaukset muihin tieteellisiin teksteih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äsmällistä ulkoasua ja sisältöä tarvitaan myös elinkeinoelämäss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E2E-986F-4A3B-8BE8-818C3A2037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34F03-14D0-4FEF-96D4-AF0626B40C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09:18:42Z</dcterms:created>
  <dc:creator>Teemu Kerola</dc:creator>
  <dc:description/>
  <dc:language>en-US</dc:language>
  <cp:lastModifiedBy>mnykanen</cp:lastModifiedBy>
  <cp:lastPrinted>2000-09-06T08:01:55Z</cp:lastPrinted>
  <dcterms:modified xsi:type="dcterms:W3CDTF">2002-01-21T08:07:12Z</dcterms:modified>
  <cp:revision>97</cp:revision>
  <dc:subject/>
  <dc:title>Tieteellisen kirj. kurssi</dc:title>
</cp:coreProperties>
</file>