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B74-C931-493D-94B6-30D3F267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65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DAF-B8B7-4753-A6B9-6D5C58E8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1400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4754-35E5-4D82-A397-594E5AF7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480" y="198108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8600" y="198108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480" y="413064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8600" y="413064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3230-8BEC-45E3-BB18-54177029A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A84-AA6F-41F9-AEB9-8352DED1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59DF-2B47-43AA-88E9-5760451E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882-8043-44B7-B25C-6692E182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D659-1A9C-4447-9291-7BEFE100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6000"/>
            <a:ext cx="766584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689-C630-43E6-858B-85A52544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EE6-5007-4354-AF15-9C64D375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1400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C94-4C90-4C25-89DD-C9999C3F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65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4BCD-E09A-4AB6-80B3-9D8CC90C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5D86C6-D5C6-4E28-9CC2-483BAC04240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AD828B-6B8E-4DCD-8013-64A0CD0AB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ieteellinen kirjoittaminen 3/7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: Kirjoittamisen vaikea tai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irjoittajana kehittymi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irjoittaminen prosessi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I: Kirjoitelman jäsentelyst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edonpalasista tekstisisällöksi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II: Asiatekstin synnyttämisest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lautteen antamise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"Kuutiointiharjoitus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nikirjoitelman aihe valmiiks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49280" y="1447920"/>
            <a:ext cx="3995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Katson näitä myöhempien aikojen mestarei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jotka innoissaan kokoontuvat kirjoittamaan runoj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He päättävät aiheen ja sopivat näkökulma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pohtivat ankarasti minkä muodon valitseva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heidän runomittansa ovat hyvin perusteltuj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heidän loppusointunsa tarkoin valittuj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Parhaansa mukaan he välttävät kuluneita sanontoj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etsivät mahdollisimman uudenlaisia ilmaisuj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Suurenmoista, todella suurenmoista, mu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miksi niistä ei lopultakaan ole runoiks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i-FI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i-FI" sz="1200" spc="-1" strike="noStrike">
                <a:solidFill>
                  <a:srgbClr val="000000"/>
                </a:solidFill>
                <a:latin typeface="Arial"/>
              </a:rPr>
              <a:t>Ryokan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 (suom.Kai Niemin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813-6CDC-488A-819F-1FBE9A5FB3C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577CD-0497-49AF-9EE8-43CDB8538D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Sisältösuunnitelma ja jäsentely (2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656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te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uovaa toimintaa: ei yleistä tai kaikille sopivaa metod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ihepiirin jäsentely käsitekartoil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jattelua ja kommunikointia tukevat vapaamuotoiset formalismit (MindMap, Concept Map, …)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esimerkkejä kurssimapiss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vapaa assosiointi, "yhden hengen aivoriihi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dinkysymys tai -aihe keskelle, ympärill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vapaasti assosioide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siihen liittyviä asioita, käsitteitä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a uusia kysymyksi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ielä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itse)karsinta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äsitteiden väliset suhteet, ylä- ja alakäsitteet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s. esim. s. 44-49 teoksessa Hakala, J.T., Graduopas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udeamus 1999 (kurssimapiss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B33-5BEA-447F-AC7C-32CE2D2E73F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D9D1C-6191-4DD3-8A14-81DB208294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Sisältösuunnitelma ja jäsentely (3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Kriittinen tarkastel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stä voi syntyä lukuja tai alilukuja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yperät, epärealistiset ja hedelmättömät karsita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duun mahtuu n. 4-6 pääteemaa, LuK-tutkielmaan n.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Käsittelyjärjesty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nkä asioitten varaan mikin rakentuu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ronologinen? Tutkimuksen etenemisen mukainen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leisestä erityiseen tai taustoista pääasiaa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pesifistä yleiseen tai pääasiasta sitä valaiseviin erikoistapauksii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attaa syntyä verkkojäsentelystä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ukija huomioon: tutusta tuntemattomaa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14F-CE31-471B-A872-3CBE623828D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0E0A9-D7ED-4BDA-A180-D386FA73A3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Sisältösuunnitelma ja jäsentely (4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dellisten tuloksena alustava sisällysluette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im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Tähtiharrastuksen suosio" (Hakala, 199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Johdan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heen motivaat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iharrastus globaalina ilmiön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skeisimmät käsitte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Tähtitieteellisen maailmankuvan kehit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aksoisvirtojen maan tähtitie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inaisen Egyptin maailmanku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reikan tähtitie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itiede keskiajal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itiede uudella ajal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46F-8FD7-4AAE-BF00-E5B1610CABE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5F789-D06B-457F-B735-7DE7704198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Sisältösuunnitelma ja jäsentely (5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56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Ursa, sen historia ja toimin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rsa pähkinänkuores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rsan histo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ähtiharrastustav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Kyselyaineiston hankinta, analyysi ja tulok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neiston käsittelymenetelmä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 Tulok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rsalaisen muotokuva kyselyn perusteel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Pohdin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ungon muokkaaminen kirjoitelmak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ukana tekstikatkelmia, avainsanoja, lähdeviitteitä, arvioita laajuudesta, "TODO"-pointteja, ajatuksia esitystekniikoista (kuvat, taulukot, algoritmi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ventuu aukikirjoitetuksi selväsanaiseksi tekstiks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CECF-9515-4ED3-B33B-9FA08A1B8F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D4600-36DA-479C-AB06-67A1D39575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II: Asiatekstin synnyttämisestä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llättävän pitkälle pääsee kirjoittamalla vastauksia perustavanlaatuisiin kysymyksi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tä? Miksi? Kuinka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äärittelevä tyyli ja keskeisten käsitteiden kiinnittäminen eduksi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 välttämättä 'matemaattiseen' tyyliin "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ääritelmä 1.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..."; mieluummin 'luonnolliseen' tyyliin "Ohjelmiston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linkaarell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arkoitetaan sitä kokonaisuutta, jonka muodostavat …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im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kurssimapiss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lhorn &amp; Tsakadilis ("Data Structures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ho &amp; Ullman ("Introduction to Code Optimization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58B-7077-4706-AF85-36280F22826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85DE6-DFC8-410D-9E72-FC1A17D62A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06360"/>
            <a:ext cx="7665840" cy="76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Palautteen antamisest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37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nettavaan palautteeseen kuuluv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tajan (lyhyt) käsitys tekstin ytimestä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jotta kirjoittaja näkee onko antaja lainkaan jyvällä asiasta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h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iistä rakenneratkaisuista ja tekstin osista jotka toimivat – motivoi ja keskittää olennaisiin muutoksi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ysymyks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iistä osista jotka eivät keskivertolukijalle auenne(e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annusehdotuks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iihin rakenneratkaisuihin ja osiin jotka eivät tuntuneet toimivan – työ jääköön silti kirjoittaja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yönti- ja kielivirhekorjauks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jollain johdonmukaisella merkintätavalla; kansiossa eräs (vanhahko) standard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vioitavana on se, miten hyvin teksti välittää asiansa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iede)julkaisujen (nimettömissä) asiantuntija-arvioissa myös asiasisällön oikeellisuuden ja merkittävyyden arvioint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4D8-9A9B-45BF-8EED-E6B424FFED8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2B10D-CC7E-4703-9F58-DB48CAE383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"Kuutiointiharjoitus"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56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alitse otsikoksi sopiva aihe, josta suhteellisen hyvä muistinvarainen käsit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ihe aineen/tutkielman aihepiiristä eduks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yös harrastuksiin, arkielämään tms. liittyvä kä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irjoita aiheesta muutama minuut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kuvaill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vertaill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 yhdistell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sovelta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. analysoi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 valiten hyviä ja huonoja puol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uloksena usein yllättävän hyvää raakateksti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pii myös (n. 3 hengen) pienryhmään, jolloin toisilta saa (pika)palautet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0EE0-F8E3-45FD-B942-F2222D60F22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97A72-7555-409D-8C6E-D5D486DF7B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c0128"/>
                </a:solidFill>
                <a:latin typeface="Arial"/>
              </a:rPr>
              <a:t>P.S. Töiden palauttamine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Paperilla!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uten tarkoitettu ulkoasu saattaa kadota konversioiss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ai jos on pakko palauttaa sähköisesti, niin sellaisessa muodossa, joka näyttää samalta kaikissa ympäristöissä: PS tai PDF – ei .doc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Ohjaajalle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joko henkilökohtaisesti tai sitten hänen nimellään varustettuna vahtimestareille edelleen sisäpostissa toimitettavaks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Niin monena kappaleena kuin vaadita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773-A686-485C-A856-2AB4D300DD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4A94C-7A1A-4275-AD49-B01FCE07B8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306360"/>
            <a:ext cx="766584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: Kirjoittajana kehittymine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656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s. esim. Mäkelä, M., Kirjoitelman laatimi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otisivul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janaisia mutta hyödyllisiä ajatuksia ja ohjei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oitteleva kirjoittaja vs. asiantuntijakirjoittaj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rt. "Minä kirjoittajana"-itsearviointi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myös kurssimapiss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oittelijan kirjoitusproses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yö aloitetaan suunnittelemat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kstille ei aseteta tavoittei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ysymyksenasettelu ja argumentointi puuttuva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kstin sisällön ja ilmaisun suhdetta ei pohdi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irjataan kaikki, mitä asiasta tiedetää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iat liittyvät otsikkoon, eivät välttämättä toisiins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htävän vaatima älyllinen kapasiteetti minimoidaa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47E-580F-4D17-B0EC-75133D2FD5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EE355-8DE9-4687-BADE-B62B37062E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Kirjoittajana kehittyminen (2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iantuntijan kirjoitusproses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etitään tehtävän vaatimustaso ja tekstin tavoi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unnitellaan ja jäsennetää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irjoitetaan nopeasti luonn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uokataan ja korjaillaan omaa tekstiä perusteellisest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htautetaan jatkuvasti ilmaisua ja sisältöä toisiins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gumentointi ja päättely ovat johdonmukaisia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6CE-FF06-4051-809F-A140C6E1D1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0FB00-0BCA-482D-B13C-940A3BF9EE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Kirjoittajana kehittyminen (3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uinka kehittyä aloittelijasta kohden asiantuntijaa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ppimalla suunnittelemaan, arvioimaan ja hiomaan omaa teksti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saamalla ottaa palautetta tekstistä loukkaantumat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yhmältä, kavereilta, ohjaajal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irjoittamalla tekstiä tarvittaessa kokonaan uudelle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rjoittelemalla jokainen voi kehittyä kirjoittajana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7FF-D4B3-45FC-871A-70C85F3D0C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5A06A-E7B9-4522-A1C9-BDF4E67774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Kirjoittaminen prosessin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6564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leellista iteratiivisuus ja prosessimaisuus: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vä kirjoitelma ei synny kertakirjoittamall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äs mal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valmistelu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edonhaku, perehtyminen, ajatusten aktivointi, piirtely, tekstikatkelmien kirjoittelu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esiluonnos (mielellään nopeast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 palautteen hankkimi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luonnoksen muokkaami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. tarkistusluku ja hiomi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 oikolok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. arviointi ja julkistami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laten aina tarvittaessa takaisin edellisiin vaiheisi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5E6-A1C5-4433-83D0-E27AF26B8F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8FF0F-279D-40C1-9555-B7DEE9BE2C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Kirjoitelman luonne ja tavoit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656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lmaisun huomioonottamine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eteellinen kirjoi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älittää lukijalle tietoa sisältävän sanom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ukijan voitava tarkistaa väitteet suorittamalla samat ajatuskulut kuin kirjoittaja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ja toistamalla raportoidut kokeet ja havainno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n tähden selkeä asiatyyli ja looginen etenemin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i tyyppisiä tieteellisiä kirjoitelm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hin siis pyrkiä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rssin harjoitukset kirjallisuuteen perustuvia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opinnäytetöitä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lähellä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katsaust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ai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yhteenvet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surve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okoava esitys, jossa yleensä tietoja useista julkaistuista töist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utta tietoa arviointien ja vertailujen muodossa tai yhdistellen ja täydentäen muiden töit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69F-70F0-4347-B096-966B3766D4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55F35-A8F4-4FCA-8C29-78E7368AA2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I: Kirjoitelman jäsentelystä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656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edonpalasista laadukkaaksi tekstisisällöksi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"Tilkkutäkkisyndrooma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uono tutkielma usein kasaelma eri lähteistä lainattuja tekstikatkelm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inka välttää tätä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ustava tutkimusajatus ohjenuoran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läpi työskentely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hin työllä pyritään? Mikä on keskeisintä asiaa?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utkielman punainen lanka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vrt. pro gradun aihe-erittel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istaa läpi hyvästä kirjoitelmasta, huonossa usein hukass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oi muuttua ja täsmentyä työn edetess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in pidentyy aiheen tarkentues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tten lyhenee näkökulman kirkastues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04BB-E78D-4138-91CC-7F8E137F28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D1E2F-706E-4613-946F-67CA2A5208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yöaikataulu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tä vaiheita ja millo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irjallisesti ja realistises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leensä varattu aika ei riitä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imeistely, kuvat, taulukot, kielen tarkastaminen vievät aika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oita siis ajoissa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aadittu osa gradun tutkielmasuunnitelma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658-5436-4B24-8380-77621C8638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FF53B-4F1C-4D97-A131-D1B530E2FE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Sisältösuunnitelma ja jäsentel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tä aiheita kirjoitelmaan sisälty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ksi jäsentelyä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ukee kirjoittamista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inotukset, työn kokonaisuus, asioiden tarpeellisuuden ja esitystapojen arviointi, ajan ja tilan hallin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ukee lukemista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lpottaa ajatuskulkuja, ilmaisee kokonaisuuden ja osat sekä niiden loogiset suhte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rilaisten lukemistapojen tuki: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lailu, spesifin tiedon haku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5F2B-5212-4B6D-AFD6-D069B7A1E5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15C07-4AC9-41AD-89AE-6B912A12F8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7T09:18:42Z</dcterms:created>
  <dc:creator>Teemu Kerola</dc:creator>
  <dc:description/>
  <dc:language>en-US</dc:language>
  <cp:lastModifiedBy>mnykanen</cp:lastModifiedBy>
  <cp:lastPrinted>2000-02-01T16:54:28Z</cp:lastPrinted>
  <dcterms:modified xsi:type="dcterms:W3CDTF">2002-01-28T09:22:42Z</dcterms:modified>
  <cp:revision>95</cp:revision>
  <dc:subject/>
  <dc:title>Tieteellisen kirj. kurssi</dc:title>
</cp:coreProperties>
</file>