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028E-AA5A-4627-9954-C573EEE6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F52-B0C8-4F63-B472-78BF308A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400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973-08C2-4005-A7A8-3E83C01D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48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860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48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860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7DA-5C25-4774-A99F-BCE5B179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3B8-BA58-4D19-9472-1BBDC1EE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B44-51C2-41DB-9160-B08D4CE1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B4FA-6A3B-47D0-BD19-16E7F6EA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504-00D1-418B-A8E1-ABECDF27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6000"/>
            <a:ext cx="766584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2FC-4496-4874-A8B9-7AA3B28F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253-1904-4EED-83F3-DFD7E2DE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400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BDB-A5E4-44C0-BD9C-A25ACA8E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F66-85F1-4A34-BB3B-6749EA71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3FABFAD-167C-4A31-9963-3D0637C8B88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95D492-2A7B-45EE-8568-2C02D57FC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ieteellinen kirjoittaminen 4/7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701064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: Kirjoitelman os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I: LaTeX-ladontaohjelmas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II: “Kirjoittamista koskevia käsityksiä” -kyselyn tulok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99A-4E94-4994-AB5C-DA6A2F26F16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9AC77-280C-4F9D-A962-CE6F40F2E1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c0128"/>
                </a:solidFill>
                <a:latin typeface="Arial"/>
              </a:rPr>
              <a:t>Huomautuksia huomautuksist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656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Joskus tuntee tarvetta huomauttaa lukijalle jostakin mielenkiintoisesta sivupolusta, jolle ei kuitenkaan lähdetä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nnattaako tekstin pääteeman kulkua sittenkään rikkoa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os kannattaa, niin seuraavia tapoj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uomatus sijoitetaan tekstiin kaarisuluissa (kuitenkin niin, että lause ja ajatus pysyy koossa, vaikka sulkeissa oleva osa jätettäisiinkin lukematt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uomautukset kootaan numeroituina sivun alalaitaan 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uomatukset kootaan numeroituina koko tekstin (tai luvun) loppuu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i monia tapoja samassa tekstissä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ähän tapaan. Ongelmallista jos tekstissä on matematiikkaa… Humanistit siirtävät usein kirjallisuusviitteensä tänne pois tekstistä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36576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93C-C584-45CA-9909-BD10622053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2CFD6-D68D-4EDE-AE50-12C9F6130C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c0128"/>
                </a:solidFill>
                <a:latin typeface="Arial"/>
              </a:rPr>
              <a:t>"Minun mielestäni…"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656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Tiedetekstissä pyritään esittämään faktoihin perustuvia argumentointiketjuja, ei omia mielipiteitä. Mutta jos on pakottava tarve, nii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400" spc="-1" strike="noStrike">
                <a:solidFill>
                  <a:srgbClr val="000000"/>
                </a:solidFill>
                <a:latin typeface="Arial"/>
              </a:rPr>
              <a:t>Periaatteessa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kirjoittajan mielipiteet erottuvat tekstissä jo siitä, ettei niihin liity kirjallisuusviitteitä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mutta selkeämpää on kirjoittaa niistä </a:t>
            </a:r>
            <a:r>
              <a:rPr b="1" lang="fi-FI" sz="2400" spc="-1" strike="noStrike" u="sng">
                <a:solidFill>
                  <a:srgbClr val="000000"/>
                </a:solidFill>
                <a:uFillTx/>
                <a:latin typeface="Arial"/>
              </a:rPr>
              <a:t>oma luku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esim. otsikolla "arviointia" ("Discussion"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Alkuun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johdantoluvun jälkeen, jos arvioidaan ongelman nykytilannetta t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Loppuun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ennen yhteenvetolukua, jos arvioidaan käsittelyssä esiteltyjä ratkaisuvaihtoehtoja t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1295280"/>
            <a:ext cx="4191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"Any clod can have the facts, but having opinions is an art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18DA-53F5-43C0-BEDC-859B1D58B2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90B31-5670-479D-8F4F-23D60135D4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6620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I: LaTeX-ladontaohjelmast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37515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YSIWYG-ohjel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ääsee heti kirjoittama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iiri- ja ikkunaohj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ulostusasu aina esill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yviä lyhyisiin (&lt; 20s.) ja/tai visuaalisiin tehtävi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htälöt ym.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graafis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elementtej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irjallisuusviitteiden ym. numerointi (lähes) käs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"What You See I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You Get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8240" y="2209320"/>
            <a:ext cx="375264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(La)T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atii (paljon) tutustumis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rkkauskieli (á la HTM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aksivaiheinen kääntäj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yvä pitkiin tehtäviin joissa ulkoasu ei el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htälöt ym.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loogis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elementtej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lähes) automaattinen elementtien numeroin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hjelmoitavissa; monia makrokirjastoja verkos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960480"/>
            <a:ext cx="79246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sktop Publish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A huge advantage in communications technology, desktop publishing has put within the reach of nearly everyone the ability to produce hideous-looking printed materials. Thanks to this computer-age marvel, aspiring graphic artists have attained the ability to demonstrate why they are "aspiring" almost instan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haz Bufe: The American Heretic's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1E1-690F-4A00-9C64-D0A20AA3DBF8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A04FC-F2EA-43D6-AB57-B83F74B3B6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III: "Kirjoittamista koskevia käsityksiä" -kyselyn tulokset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ikajärjestyksessä sisältä ul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evät 2002 uloimmalla kehäll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ksy 2001 toiseksi uloimmalla kehäll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evät 2001 toiseksi sisimmällä kehäll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ksy 2000 sisimmällä kehäll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oli osoittaa suunnan heikommasta parempa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2EE3-E3A2-4A4C-80A2-5CDD89ADFBB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B6CE3-4A25-4032-9C9D-E0B81044B6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1: Tiedon muokkaamine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93600" y="1981080"/>
          <a:ext cx="76312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981080"/>
                    <a:ext cx="76312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7238880" y="3429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C37-F642-431B-8ACF-D939C22A7B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A2EB9-087E-4300-85C6-85F137CD3F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2: Tiedon toistamine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93600" y="1981080"/>
          <a:ext cx="76312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981080"/>
                    <a:ext cx="76312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7086600" y="33523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CB7-2AC2-4762-8A08-A3D23DCFD32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869AD-9D00-4FCA-98B3-CCCF1D72A7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3: Helppous ja positiiviset asentee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993600" y="1981080"/>
          <a:ext cx="76312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981080"/>
                    <a:ext cx="76312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7086600" y="3429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81B-6E81-432C-804D-19B1D56A21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12DB0-0E0B-4A6A-A409-64EF2B3B85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4: Tuottavuu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93600" y="1981080"/>
          <a:ext cx="76312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981080"/>
                    <a:ext cx="76312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7086600" y="3581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5E11-2BE0-4A7A-9426-A3669896CCB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2C07F-BC1B-4212-BA99-3AAE916477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5: Viivyttel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993600" y="1981080"/>
          <a:ext cx="76312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981080"/>
                    <a:ext cx="76312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 flipV="1">
            <a:off x="7086600" y="35053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F01-6ABC-4585-A02B-04EAC2D47F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288E7-6629-4C86-9BAE-C1D4BC955F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6: Kirjoittamisen esteet ja ilmaisun tyrehtymine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93600" y="1981080"/>
          <a:ext cx="76312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981080"/>
                    <a:ext cx="76312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 flipV="1">
            <a:off x="7086600" y="33523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75D-9AB2-4EA9-B312-83B5099223F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A588F-9759-4E8C-B806-8AC757B301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c0128"/>
                </a:solidFill>
                <a:latin typeface="Arial"/>
              </a:rPr>
              <a:t>I: Kirjoitelman osat</a:t>
            </a:r>
            <a:endParaRPr b="1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istilista - kaikki harvoin mukan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. Otsikko (kirjoitelmaa kuvaava nimi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. Tiivistelmä ja bibliografiset tiedo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 Alkusanat (Milloin tarpeen?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. Sisällysluette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skus myös luettelo kuvista, taulukoista, esimerkeistä, …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 Lyhenteiden ja merkintöjen selostuk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in laajoissa ja raskaita merkintöjä sisältävissä töissä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6. Johdantoluku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. Käsittely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rilaisia jaottelutapoj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oria; aineisto ja menetelmät; tulokse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ulosten tarkastelu, johtopäätök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D1A-DC7D-4362-BACD-13FFC982226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83DC6-20F8-4E05-A448-2C4EF92CFD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7: Perfektionismi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93600" y="1981080"/>
          <a:ext cx="76312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981080"/>
                    <a:ext cx="76312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flipV="1">
            <a:off x="7086600" y="35053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625-4827-4A61-A6EB-71F95F9B892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2C3DC-ABB6-45DC-94B6-DA41875EB3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8: Negatiiviset ajatukse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93600" y="1981080"/>
          <a:ext cx="76312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981080"/>
                    <a:ext cx="76312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 flipV="1">
            <a:off x="7086600" y="33523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3128-E62E-4FCD-A9A9-DD15E507EC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A6F93-E3C7-4A87-A33F-71E97FCC9D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9: Kirjoittaminen luovana toimintan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93600" y="1981080"/>
          <a:ext cx="76312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1981080"/>
                    <a:ext cx="76312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7086600" y="3581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F20-637C-4299-9734-5C097B8EAE0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E59B3-8E74-4595-9F1B-15A30C4D9F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c0128"/>
                </a:solidFill>
                <a:latin typeface="Arial"/>
              </a:rPr>
              <a:t>Kirjoitelman osat (jatkuu)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656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6786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. Yhteenve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Kiitokset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 tarvittaessa eri tekijöiden osuudet, ulkopuolelta saatu apu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Huomautukset (harvoin tarpee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. Lähdeluettel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uluu itse työhön yhtenä sen luvuista, vaikka yleensä numeroimat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. Hakemisto (laajoissa töissä hyvä apu lukijal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koaminen lopuksi vaivalloista jos jää viime tinkaan; arvioi tarve ja aloita jo etukätee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3. Liitteet (jos tarpee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ttaustuloksia, teksiin tiiviisti liittymättömiä algoritmeja, esimerkkejä, todistuksia, 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257-593A-46BF-899E-686724099B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9A555-90EE-4525-B279-8C63E7E506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irjoituksen osien tarkoitu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56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s. esim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äkelä, M., Kirjoitelman laatiminen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tanen, J.-P., Opinnäytetöiden kirjoittaminen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yhyt oppimäärä (kotisivulta)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ttp://www.mit.jyu.fi/santanen/info/kirjoittamisesta.htm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nsilehti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ks. Opinnäytetyön ulkoasun malli, kotisivult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sikoi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uippuunsa vietyä tiivistämistä; silti selväkielistä: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 lyhenteitä tai lähdeviitteitä, ei mielellään kaavo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yleensä muutaman substantiivin) naseva kuvaus kirjoitelmasta tai sen luvu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ärkeä lukemispäätöksen tuk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tsikoinnin vastattava sisältö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man tason otsikoiden rinnasteisu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217-FC3E-4497-9643-65508F3F64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AFBAE-3590-40A1-9D6E-FF52525C7B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iivistelmä (</a:t>
            </a:r>
            <a:r>
              <a:rPr b="1" i="1" lang="en-GB" sz="3600" spc="-1" strike="noStrike">
                <a:solidFill>
                  <a:srgbClr val="fc0128"/>
                </a:solidFill>
                <a:latin typeface="Arial"/>
              </a:rPr>
              <a:t>abstract</a:t>
            </a: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)</a:t>
            </a:r>
            <a:br>
              <a:rPr sz="2400"/>
            </a:b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656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ön lyhyt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tsenäin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kuva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rkko- ja hakukäyttö; ei matematiikkaa; lähdeviitteet auki;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leensä yksi kappale, 2-5 lausetta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x. 200 sanaa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kieli- ja kustantajariippuvaist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tkimuksen lähtökohdat, aihe, menetelmät, tulok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atsaustyyppisen työn tiivistelmä muistuttaa aukikirjoitettua sisällysluettelo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tä työssä esitellään, kuvataan, tarkastella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yypillisesti yksi lause / aihetta käsittelevä luk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 viittauksin lukuihin VAAN asiaan keskittyvänä tekstin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äkökulma: työn esittely sille joka etsii tietoa kirjastos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ivistelmäsivuun liittyvät bibliografiset tiedot ks. Opinnäytetyön ulkoasun mal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66E-F135-49B8-81DF-D49A821F9F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FC93C-6724-4E64-BA21-2D46630959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Sisällysluettelo ja johdanto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56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"Sisältö" napakka otsikko sisällysluettelo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uettelo luvuista ja aliluvuista sivunumeroine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rabialaine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ivunumerointi alkaa sisällysluettelon jälkeen (1, 2, 3, …) – itse tekstisiv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deltävät sivut voi numeroida (pienillä)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oomalaisill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numeroilla (i, ii, iii, …) – edeltävät lisälehd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ohdanto (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simmäinen luku; työn tärkeimpiä os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sällön ja (tarpeellisten) taustojen yleinen kuva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tivointi, keskeiset tulok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kartta" jatkoon: kunkin luvun sisältö lyhyest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/2 - 3 sivua - pidemmästä ehkä aiheellista eristää aiheen taustaa käsittelevä (tms.) luku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äkökulma: johdatus työhön sille joka on valinnut sen luettavaks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A84-7B7A-443A-A975-559156DCAF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4BB92-0CB7-478A-A758-7F4F99A38F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äsittel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656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uvut 2..N-1 (N &lt;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ihepiirin jäsentelyn pohjalta (ks. edellinen luento) syntynyt jaottel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voitteena lukujen pituuksien tasapai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li kolmitasoisia alilukuja tai numeroimattomia otsikkoja ei suositel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nen luvun ensimmäistä alilukua (muutama)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johdantokappal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ttelee luvun sisällön ja kytkee sen työn kokonaisuut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s. esim. Aho &amp; Ullman ("Introduction to Code Optimization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ksi juuri nämä aliluvut ja asiat saman katto-otsikon all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43C0-5B56-4438-9520-82D1F2E7FA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09D56-435D-4825-929A-E85F8F6C3A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Yhteenveto (</a:t>
            </a:r>
            <a:r>
              <a:rPr b="1" i="1" lang="en-GB" sz="2800" spc="-1" strike="noStrike">
                <a:solidFill>
                  <a:srgbClr val="fc0128"/>
                </a:solidFill>
                <a:latin typeface="Arial"/>
              </a:rPr>
              <a:t>conclusion</a:t>
            </a:r>
            <a:r>
              <a:rPr b="1" lang="en-GB" sz="2800" spc="-1" strike="noStrike">
                <a:solidFill>
                  <a:srgbClr val="fc0128"/>
                </a:solidFill>
                <a:latin typeface="Arial"/>
              </a:rPr>
              <a:t>) ja lähdeluettelo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56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hteenveto yleensä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iimeinen numeroitava luk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ituudeltaan 1/2 - 3 siv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skeisten asioiden kerta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lvelee tiivistelmän ja johdannon ohella kiireistä lukija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i pelkkää kalpeaa toistoa. Uutuusarvoa esim. näkemyksellisessä painottamisess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atkokehitys, suunnitelmat, tulevaisuusarviot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äkökulma: työn kertaus sille joka on lukenut sen oppiakseen uutt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ähdeluette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lkuperäislähteistä lainattujen tietojen tarkistamiseks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sältää kaikki viitatut lähteet (eikä muit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säksi mahdollisesti erillinen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kirjallisuu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uette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uoto ks. Opinnäytetyön ulkoasun mall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BDC-74E6-4271-92E4-62666BC8E1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45E06-3BF1-4172-A824-10D06A5B12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Kirjoitelman ja sen osien muodosta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"Tekstillä on alku, keskiosa ja loppu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ma pätee myös kirjoitelman osi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ku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hdattaa lukijan kirjoitelmaan tai sen lukuu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ytkee tekstin tai luvun kontekstiin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eskiosa: varsinainen käsit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p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pyöristää" käsittely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hmennys, tarkastelujen yleistys tai kytkeminen eteenpä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m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Seuraavassa luvussa tarkastellaan esitettyjen menetelmien soveltamista tietoliikenteen turvaamisessa.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5D4-701C-4FC4-BA07-690E13E0E1C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87A36-3CBB-408D-BB82-5F18D64A47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7T09:18:42Z</dcterms:created>
  <dc:creator>Teemu Kerola</dc:creator>
  <dc:description/>
  <dc:language>en-US</dc:language>
  <cp:lastModifiedBy>mnykanen</cp:lastModifiedBy>
  <cp:lastPrinted>2001-02-05T14:06:14Z</cp:lastPrinted>
  <dcterms:modified xsi:type="dcterms:W3CDTF">2002-02-04T12:07:02Z</dcterms:modified>
  <cp:revision>93</cp:revision>
  <dc:subject/>
  <dc:title>Tieteellisen kirj. kurssi</dc:title>
</cp:coreProperties>
</file>